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C10-07E3-4408-B566-3ECD6FC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C1E-EFAD-4E7A-BEB6-71EC487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275-71AE-4E99-8D16-3A4663D8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973-71BC-4D37-9FCE-835719EB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E4B-66E6-44AA-B328-BE9D07A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EB6-88D5-4E1D-A857-5366F5C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D49-4853-4F6C-98F9-62281109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08B-996B-4DE6-8528-37AC944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23B-0819-447E-B4CA-A693402C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E47-3DDB-4284-8211-9B9B383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838-2EB3-4AE1-8CAD-918450D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4B0-733B-4926-A2D3-8E0A3EE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9B0-5890-47EC-AD0C-DBE5E0BD4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ri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hat mange la ga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2530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64000" y="620640"/>
            <a:ext cx="201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dr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286160" cy="332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4941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taureau s’échauf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4:37:22Z</dcterms:created>
  <dc:creator>Ecole Notre Dame de Lourdes</dc:creator>
  <dc:description/>
  <dc:language>en-US</dc:language>
  <cp:lastModifiedBy>Ecole Notre Dame de Lourdes</cp:lastModifiedBy>
  <dcterms:modified xsi:type="dcterms:W3CDTF">2015-01-24T15:05:18Z</dcterms:modified>
  <cp:revision>3</cp:revision>
  <dc:subject/>
  <dc:title>Hadrien </dc:title>
</cp:coreProperties>
</file>