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ADE-D62F-4E51-A496-ADA2502C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50C-BAEB-4918-AD46-8EF4F858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2C0-17CE-47AB-813B-43C5F9C5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8DB-220E-4965-AE6B-D51DA294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47F-0628-4E18-AFBC-86366C36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1170-F7A5-413D-92C7-2AA19768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32F-19B6-47F2-8409-74D32313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C35-2557-40B8-9A08-60F80E8B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E17B-46B1-47A8-AEC0-955557E0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A23-3AD1-4D6C-A079-1F1EC6E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4C7-DF39-4705-998F-8118E519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7E9-72F1-4594-8842-33FEA66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88B5-F4C2-487E-A010-B3A3BA75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dri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hat mange la ga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56000" y="2060640"/>
            <a:ext cx="25304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64000" y="620640"/>
            <a:ext cx="201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dr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40000" y="1341360"/>
            <a:ext cx="4286160" cy="3322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494172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taureau s’échauff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4:37:22Z</dcterms:created>
  <dc:creator>Ecole Notre Dame de Lourdes</dc:creator>
  <dc:description/>
  <dc:language>en-US</dc:language>
  <cp:lastModifiedBy>Ecole Notre Dame de Lourdes</cp:lastModifiedBy>
  <dcterms:modified xsi:type="dcterms:W3CDTF">2015-01-24T15:05:18Z</dcterms:modified>
  <cp:revision>3</cp:revision>
  <dc:subject/>
  <dc:title>Hadrien </dc:title>
</cp:coreProperties>
</file>