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AAF-6DB7-453A-9667-CC086C9D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D68-4F59-4C02-B4D4-8E551090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5F7-8C6A-4645-BA62-6018A49D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17E-357B-4E48-92A7-B11A2B0D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DA0-31A6-4016-888C-7392AAC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D09-6138-4C38-9E16-447431E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60C-5E3A-4ADB-A97E-2D7FDD0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A14-05AA-4E3A-A812-9FDEBD6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2F2-6F04-463F-BE81-D28A963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BD5-4E55-4791-ABAD-2F40D1E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BA3-CEC2-481A-9597-4A19FA5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3A6-FF4C-449D-A443-AC0EE35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6EC-9F97-4565-9CF2-354BE8D6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84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 belle cha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981000"/>
            <a:ext cx="525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024360" cy="2462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nivers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560" y="3933720"/>
            <a:ext cx="74278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nniversaire d’une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2361960" cy="2421000"/>
          </a:xfrm>
          <a:prstGeom prst="rect">
            <a:avLst/>
          </a:prstGeom>
          <a:ln w="0">
            <a:noFill/>
          </a:ln>
        </p:spPr>
      </p:pic>
    </p:spTree>
  </p:cSld>
  <p:transition advTm="0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00360" y="4653000"/>
            <a:ext cx="374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mignon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519280" cy="2089080"/>
          </a:xfrm>
          <a:prstGeom prst="rect">
            <a:avLst/>
          </a:prstGeom>
          <a:ln w="0">
            <a:noFill/>
          </a:ln>
        </p:spPr>
      </p:pic>
    </p:spTree>
  </p:cSld>
  <p:transition advTm="0"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3573000"/>
            <a:ext cx="38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an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122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b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771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jolie ab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2400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00000" y="1916280"/>
            <a:ext cx="1133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ès 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720" y="4581360"/>
            <a:ext cx="30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. matchie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18:37Z</dcterms:created>
  <dc:creator>Ecole Notre Dame de Lourdes</dc:creator>
  <dc:description/>
  <dc:language>en-US</dc:language>
  <cp:lastModifiedBy>Ecole Notre Dame de Lourdes</cp:lastModifiedBy>
  <dcterms:modified xsi:type="dcterms:W3CDTF">2015-02-07T15:05:53Z</dcterms:modified>
  <cp:revision>3</cp:revision>
  <dc:subject/>
  <dc:title>Diapositive 1</dc:title>
</cp:coreProperties>
</file>