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gif" ContentType="image/gi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0795-76DC-42FE-90CD-82360D019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06BD-3B46-4CFA-919B-5AA1C6A80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3EF9-DFF2-4FB6-84EA-C8B99164B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9B6E-2388-4052-B886-2829F9FAD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C6CC-4F46-4FDF-96AC-8697B0FAB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4C4F-472F-447A-9705-2EF11CED1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918B-2941-44AF-8B14-6633A9795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52FF-FB09-4B0E-8490-BACF846F5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549A-70D5-4D23-A96A-1A7EC8EB9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9F8A-D24E-48D7-8ECC-D950F0DB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D666-370E-4657-872D-FFF94244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2276-56FA-4FC0-BA12-5541C741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ABF24-FAF2-4A7E-A642-15A46CCDE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508428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e belle chamb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63280" y="981000"/>
            <a:ext cx="5256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è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627280" y="1916280"/>
            <a:ext cx="3024360" cy="2462040"/>
          </a:xfrm>
          <a:prstGeom prst="rect">
            <a:avLst/>
          </a:prstGeom>
          <a:ln w="0">
            <a:noFill/>
          </a:ln>
        </p:spPr>
      </p:pic>
    </p:spTree>
  </p:cSld>
  <p:transition spd="slow" advTm="0"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’anniversa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8560" y="3933720"/>
            <a:ext cx="742788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anniversaire d’une fi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843280" y="1341360"/>
            <a:ext cx="2361960" cy="2421000"/>
          </a:xfrm>
          <a:prstGeom prst="rect">
            <a:avLst/>
          </a:prstGeom>
          <a:ln w="0">
            <a:noFill/>
          </a:ln>
        </p:spPr>
      </p:pic>
    </p:spTree>
  </p:cSld>
  <p:transition advTm="0">
    <p:cover dir="u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92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 ch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700360" y="4653000"/>
            <a:ext cx="3744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 mignon c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03640" y="2205000"/>
            <a:ext cx="2519280" cy="2089080"/>
          </a:xfrm>
          <a:prstGeom prst="rect">
            <a:avLst/>
          </a:prstGeom>
          <a:ln w="0">
            <a:noFill/>
          </a:ln>
        </p:spPr>
      </p:pic>
    </p:spTree>
  </p:cSld>
  <p:transition advTm="0">
    <p:cover dir="u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’ana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19280" y="3573000"/>
            <a:ext cx="3889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’aime les ana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203640" y="1197000"/>
            <a:ext cx="212256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’abeil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71280" y="4221000"/>
            <a:ext cx="771516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 jolie abei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916360" y="1341360"/>
            <a:ext cx="3240000" cy="2743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900000" y="1916280"/>
            <a:ext cx="1133640" cy="12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inès 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076720" y="4581360"/>
            <a:ext cx="3095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348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. matchieu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3T14:18:37Z</dcterms:created>
  <dc:creator>Ecole Notre Dame de Lourdes</dc:creator>
  <dc:description/>
  <dc:language>en-US</dc:language>
  <cp:lastModifiedBy>Ecole Notre Dame de Lourdes</cp:lastModifiedBy>
  <dcterms:modified xsi:type="dcterms:W3CDTF">2015-02-07T15:05:53Z</dcterms:modified>
  <cp:revision>3</cp:revision>
  <dc:subject/>
  <dc:title>Diapositive 1</dc:title>
</cp:coreProperties>
</file>