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279-8E62-4C27-B3BD-AB6C1A12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DA6-02A5-4CD5-BF3D-EA476D52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017-637B-4242-A8BE-772E09AA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C9A-9159-48F4-A116-F326A01F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0A8-1BB7-4564-8E43-5B9107AF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A33-DA14-4114-A275-7CA45E2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5B2-684E-4E2E-98AE-31554092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61D-363C-4DCC-AE16-EB31825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CF7-3C2D-4FF7-A2DA-7E0BFB04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A99-B0F1-492D-9900-6697C09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97C-29AF-48F4-90CA-54DECC5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B83-A5D2-4BC7-A6A6-365967F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D5F-A8B5-424B-88DA-775F6F79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687800">
            <a:off x="3635280" y="1773000"/>
            <a:ext cx="2144880" cy="307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5300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Les amis de Just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1959120" cy="193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4105080" cy="41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tit chev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654000">
            <a:off x="2411280" y="3645000"/>
            <a:ext cx="3063960" cy="30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227664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belle petite ab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1125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an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171520" cy="156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1000600">
            <a:off x="1692360" y="1773360"/>
            <a:ext cx="257472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48000" y="465300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 petit canard et l’ abric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mb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223236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286080" cy="275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0000" y="43657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ien et élè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836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0.26093 L 0.03282 0.47074 E">
                                      <p:cBhvr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5:13:16Z</dcterms:created>
  <dc:creator>ndl05</dc:creator>
  <dc:description/>
  <dc:language>en-US</dc:language>
  <cp:lastModifiedBy>ndl05</cp:lastModifiedBy>
  <dcterms:modified xsi:type="dcterms:W3CDTF">2015-02-16T15:17:45Z</dcterms:modified>
  <cp:revision>3</cp:revision>
  <dc:subject/>
  <dc:title>JUSTINE</dc:title>
</cp:coreProperties>
</file>