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5CD-629B-4F46-9D16-77336AB6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769-0289-4B6C-A69F-139C2AD7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E95-059F-4DBF-BA87-4A26EAC2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C26-1F57-498B-B657-22191A73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ECC-BE85-4529-8B93-F47DA12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43E-EA2A-47D6-B044-44CCB314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D0F-EC96-4FDA-AC14-3E59286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61CD-6540-4B9A-A7F2-B2B83FBB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7BE-361E-4936-91F2-C0548644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288-0EB0-477F-ADFD-49F3480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540-FDA9-4305-AC6E-DFF0B7A8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6F1F-7EF6-4EE9-86CF-0637699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24E6-1905-4AB8-B9A6-FD505F67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9687800">
            <a:off x="3635280" y="1773000"/>
            <a:ext cx="2144880" cy="3073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5300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Les amis de Just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1959120" cy="1935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1557360"/>
            <a:ext cx="4105080" cy="41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43280" y="6093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etit chev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654000">
            <a:off x="2411280" y="3645000"/>
            <a:ext cx="3063960" cy="30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71640" y="227664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 belle petite abe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1125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e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an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96000" y="2205000"/>
            <a:ext cx="2171520" cy="156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21000600">
            <a:off x="1692360" y="1773360"/>
            <a:ext cx="257472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48000" y="465300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 petit canard et l’ abric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comb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75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1 E">
                                      <p:cBhvr>
                                        <p:cTn id="84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223236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3286080" cy="2756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80000" y="436572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ien et élèv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83664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0.26093 L 0.03282 0.47074 E">
                                      <p:cBhvr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6T15:13:16Z</dcterms:created>
  <dc:creator>ndl05</dc:creator>
  <dc:description/>
  <dc:language>en-US</dc:language>
  <cp:lastModifiedBy>ndl05</cp:lastModifiedBy>
  <dcterms:modified xsi:type="dcterms:W3CDTF">2015-02-16T15:17:45Z</dcterms:modified>
  <cp:revision>3</cp:revision>
  <dc:subject/>
  <dc:title>JUSTINE</dc:title>
</cp:coreProperties>
</file>