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258-DBBD-42D0-B42E-951783A9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455-71A6-4035-8FFA-594ADDCE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CEB-81EA-4708-A614-7F3909DA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461-6B9F-4E83-9DA1-5EAF38E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7AF-3E70-458D-A141-9E2B5DD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207-6985-4D2E-90E4-34A8CC3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867-4CF2-4DD2-9061-9EFEDEF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ACE-98F4-494D-B184-90D2F86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BD0-836A-4276-85EE-65D5CAF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1D5-E643-46C1-86E0-476CB28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BD7-8430-4A0A-9553-3B3FBC80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494-3509-4A5D-B8D1-2C8FF68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F2A-AE4D-4FBB-BE67-6F9FCB7B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ba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2295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 belles  assi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2592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39:36Z</dcterms:created>
  <dc:creator>MMathieu</dc:creator>
  <dc:description/>
  <dc:language>en-US</dc:language>
  <cp:lastModifiedBy>MMathieu</cp:lastModifiedBy>
  <dcterms:modified xsi:type="dcterms:W3CDTF">2015-01-26T15:13:55Z</dcterms:modified>
  <cp:revision>2</cp:revision>
  <dc:subject/>
  <dc:title>Jeanne</dc:title>
</cp:coreProperties>
</file>