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B80-B5EC-46F2-AC93-B2DFF000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47E-9AD1-4C5C-AC4E-67B889D9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35A-14D9-4A46-9CCC-C038A6D0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A28-FD74-4318-9DFA-3E52D65F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590-E599-4A68-A98F-B044392B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C13F-ECEB-42AE-98E1-F5D093BF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2E6-04B9-4D5C-848F-BCA91C8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E27-9280-4253-A10C-BDB1C15B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A2F-CE4C-4C54-915F-130BBF1A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F29-F641-4BC0-8B73-2CC9E96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527-AFD1-41B1-BDD2-0945003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D1C-743C-4B09-9695-CF10677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17FD-4A22-485D-96A3-A8F604F5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bag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2295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3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4" dur="indefinite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 belles  assi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25923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39:36Z</dcterms:created>
  <dc:creator>MMathieu</dc:creator>
  <dc:description/>
  <dc:language>en-US</dc:language>
  <cp:lastModifiedBy>MMathieu</cp:lastModifiedBy>
  <dcterms:modified xsi:type="dcterms:W3CDTF">2015-01-26T15:13:55Z</dcterms:modified>
  <cp:revision>2</cp:revision>
  <dc:subject/>
  <dc:title>Jeanne</dc:title>
</cp:coreProperties>
</file>