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6A3D-2990-4C02-98ED-FBDAF9613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341E-64AD-4EB3-A624-B1543BCB7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1820-8A16-41A3-AD54-23C6FCA37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028C-39F0-4E42-AC6D-1EDFA8A22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13BB-243C-4701-8DDE-8FECB114A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639D-BA51-4EB0-A174-434A880AA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08F7-11D1-4DBE-867C-1AC205C5B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4D63-D807-41BE-9C7D-BEED2A1D5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A3F7-471E-4E68-A3B5-BD6D6B0CE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3C15-5270-4D96-931C-A47A3BBE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D3D9-9425-49BC-B4ED-B4ABB9CB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8473-AF8A-4874-882F-5F1965A8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4A0ED-07A8-450D-8370-9B8AF6E109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ul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5105160"/>
            <a:ext cx="640080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te fais un cade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916360" y="1484280"/>
            <a:ext cx="349560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l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55640" y="486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chat mange dans sa gam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24360" y="1268280"/>
            <a:ext cx="2392200" cy="25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162072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l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587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 c’est be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335304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l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551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nei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51280" y="2060640"/>
            <a:ext cx="235440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L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5869080" y="8542440"/>
            <a:ext cx="4608720" cy="23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63640" y="1700280"/>
            <a:ext cx="3810240" cy="27144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187280" y="4797360"/>
            <a:ext cx="60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te fait de gros bisou part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250" autoRev="1" fill="hold"/>
                                        <p:tgtEl>
                                          <p:spTgt spid="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l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427640" y="2282760"/>
            <a:ext cx="2160360" cy="10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6T14:43:01Z</dcterms:created>
  <dc:creator>ndl01</dc:creator>
  <dc:description/>
  <dc:language>en-US</dc:language>
  <cp:lastModifiedBy>ndl01</cp:lastModifiedBy>
  <dcterms:modified xsi:type="dcterms:W3CDTF">2015-01-19T15:30:55Z</dcterms:modified>
  <cp:revision>3</cp:revision>
  <dc:subject/>
  <dc:title>Julia</dc:title>
</cp:coreProperties>
</file>