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7B1-A914-401E-A2BB-42586933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BA2-B8C3-4488-8E37-E3994C65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C18-2781-485A-A367-FE796757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DD1-C0F9-41A4-82FC-DDED94E2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585-5EE2-417B-8FA4-AB4531F2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16F-0A0B-4B23-AA82-55CD538C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B9E-4234-40EB-ABF5-22C1588B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635A-0135-48A4-96BB-5614559D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A95-2AF4-4404-9EBE-45DC3195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070-3807-48ED-A70E-A2E8E7D7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BB0-617A-494C-95AD-73F65C1E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22C-BEAD-4911-8123-4A44BF5F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2BBA-63B5-45CA-8ED4-1247FA711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105160"/>
            <a:ext cx="64008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te fais un cad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4956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486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hat mange dans sa gam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23922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6207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587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c’est b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35304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551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n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51280" y="2060640"/>
            <a:ext cx="235440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5869080" y="8542440"/>
            <a:ext cx="4608720" cy="23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3810240" cy="2714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87280" y="479736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te fait de gros bisou part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427640" y="2282760"/>
            <a:ext cx="2160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14:43:01Z</dcterms:created>
  <dc:creator>ndl01</dc:creator>
  <dc:description/>
  <dc:language>en-US</dc:language>
  <cp:lastModifiedBy>ndl01</cp:lastModifiedBy>
  <dcterms:modified xsi:type="dcterms:W3CDTF">2015-01-19T15:30:55Z</dcterms:modified>
  <cp:revision>3</cp:revision>
  <dc:subject/>
  <dc:title>Julia</dc:title>
</cp:coreProperties>
</file>