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680F-BC8E-484C-9F5D-974402A45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AE64-A857-4A5C-B8E1-E520E285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B03E-6B8C-4266-814E-FFE79BFA5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B796-67A4-4F48-8B0A-759E4190A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D41E-63C0-4243-AAFB-21DC35C4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F9CA-E588-40DD-8777-5E67EEE9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8E22-3994-4D68-A14A-B14E0185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51E6-054E-4F25-94C1-2BA666C7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7F9F-B388-4BFE-957A-84B3BA5B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52AD-6F30-4353-806A-3A30AFB0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74FF-4D41-469D-A018-81DF7D97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1891-C307-44DF-B350-F9C7A3CB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5CBF-D75B-495D-B5C0-B38B777BA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s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 belle cham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419640" y="1700280"/>
            <a:ext cx="2476440" cy="18572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75"/>
            </a:gs>
            <a:gs pos="100000">
              <a:srgbClr val="ff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n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1280" y="508464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e jolie f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348000" y="1197000"/>
            <a:ext cx="2257560" cy="31687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544500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joli poisson v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16360" y="549360"/>
            <a:ext cx="31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 pois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627280" y="2421000"/>
            <a:ext cx="2968560" cy="2425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25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0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2T15:02:46Z</dcterms:created>
  <dc:creator>ndl05</dc:creator>
  <dc:description/>
  <dc:language>en-US</dc:language>
  <cp:lastModifiedBy>ndl05</cp:lastModifiedBy>
  <dcterms:modified xsi:type="dcterms:W3CDTF">2015-02-02T15:32:20Z</dcterms:modified>
  <cp:revision>2</cp:revision>
  <dc:subject/>
  <dc:title>Justine</dc:title>
</cp:coreProperties>
</file>