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016-C762-452B-B47D-A6DC0F17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FCE-2D7A-4766-8F0D-D77BACA2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D11-B542-46BE-BEE8-F12D5EAB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E6F-F52C-418F-8571-47390CF2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B03-A9BE-49D9-A433-0367F08A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772A-00B3-46A6-8CCA-2ED1B27B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FAC-29DA-459A-8D1F-26D2A715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B75-AB6B-48DC-A9A4-DB714E46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1A0-F338-4DAA-A314-49CF215F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24D-2DC4-42D3-BFF4-B87D5573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3045-E10B-4C25-A71D-E6CE147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A26-111E-4E39-912D-CA8E550E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F696-5093-4BE4-8382-D8E6A3A14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belle cha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19640" y="1700280"/>
            <a:ext cx="2476440" cy="1857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0075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n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508464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jolie f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48000" y="1197000"/>
            <a:ext cx="2257560" cy="31687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joli poisson 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54936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 poi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2968560" cy="24256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15:02:46Z</dcterms:created>
  <dc:creator>ndl05</dc:creator>
  <dc:description/>
  <dc:language>en-US</dc:language>
  <cp:lastModifiedBy>ndl05</cp:lastModifiedBy>
  <dcterms:modified xsi:type="dcterms:W3CDTF">2015-02-02T15:32:20Z</dcterms:modified>
  <cp:revision>2</cp:revision>
  <dc:subject/>
  <dc:title>Justine</dc:title>
</cp:coreProperties>
</file>