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80E-946C-4AB8-B64E-47A718E4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49A-13F5-45F5-BC2E-6B47AB1E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24F-6E4B-43ED-99C4-8BAD8043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DB65-607C-47DB-978C-BEF3DEDE2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C547-DEE9-469F-8B42-ABB36664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A7A9-B247-4340-AF65-0B51F53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5120-C7B7-4D03-8F7F-C6CA3AF9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2B4B-336E-4F32-BDA6-CCB54493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EAED-8474-4E6E-8CD1-53E84288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00A9-BF88-4AA3-A345-1AC4022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E93E-9252-4C08-AABA-05C3123E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ED9-4BCD-47BB-A282-55BBCA05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BE88-160A-4743-947D-DF95905A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20B2-AF9A-4B26-A6E5-A363E97E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6E4B-962F-4534-AD88-52CA32A3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D1CD-BC4B-4672-9EC3-FEEB973B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88EA-D871-4EE1-BA08-D58F8423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870E-C082-445C-A237-800E4411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BD42-1DAF-4362-BDDA-2BFC8470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B52-4D41-4CFB-927D-49CDAEF8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93F0-6BD0-44BE-8F8D-3C7ABFE9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B84-B7BF-4013-850C-B11EAE7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5AB-C6C7-48D9-BC35-0189DA16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61B-1B89-427E-8366-5F42A16D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9B3-82F2-4065-BEF0-2847C14A87A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295A-1ADA-49FD-BA86-731B56D0F94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7d47d"/>
                </a:solidFill>
                <a:latin typeface="Arial"/>
              </a:rPr>
              <a:t>J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11:38:20Z</dcterms:created>
  <dc:creator>Monsieur Mathieu</dc:creator>
  <dc:description/>
  <dc:language>en-US</dc:language>
  <cp:lastModifiedBy>Monsieur Mathieu</cp:lastModifiedBy>
  <dcterms:modified xsi:type="dcterms:W3CDTF">2015-06-16T11:39:54Z</dcterms:modified>
  <cp:revision>1</cp:revision>
  <dc:subject/>
  <dc:title>J:</dc:title>
</cp:coreProperties>
</file>