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2A1-C7C2-43A5-BA9D-81E5378F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49F-95A2-4C3C-9743-65B724D8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A19-10CE-4230-9320-A6FCB538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CEB-E00C-4F2B-B9D1-BAC2930E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F8F1-E49B-40F4-A439-AE5AC7DB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EA5E-8541-40D2-A4BB-BD8AB3B5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377-7649-41D0-964B-14FBBA4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932F-F027-4EC8-B7BC-EEF3F2B5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623C-A819-47B9-A6A7-63C48C72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D0FB-C1A6-4193-B749-7B1A1D4E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12F6-196F-49A5-9B5E-69787F6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9ED-0286-4E8E-AB22-2CFF556C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F329-0132-4AC8-9992-4D26D08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901-91AE-42D1-A93E-4CC4C68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2D5F-2B0D-4A7B-BF3A-5D30BC50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5E0E-BDD0-4082-AC21-8FB480BD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622A-7BD2-402F-9B77-517A236D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01B-6F82-4376-84CF-D8DDB29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DD7-1726-44B5-8D63-73B8E28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CAA-E367-47B5-925B-24662338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FD7-ADD0-4561-AB1A-CB4518A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122-C1A9-49DC-9756-DE196C2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7A7-1769-4BC5-A8A6-F49E23C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0D7-60E5-4BE1-A4A2-E5087EE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FC6-6DDE-435D-96FC-F4D959216CE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EF0D-7DC0-4185-B3A6-829BF5D810C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Arial"/>
              </a:rPr>
              <a:t>J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1:38:20Z</dcterms:created>
  <dc:creator>Monsieur Mathieu</dc:creator>
  <dc:description/>
  <dc:language>en-US</dc:language>
  <cp:lastModifiedBy>Monsieur Mathieu</cp:lastModifiedBy>
  <dcterms:modified xsi:type="dcterms:W3CDTF">2015-06-16T11:39:54Z</dcterms:modified>
  <cp:revision>1</cp:revision>
  <dc:subject/>
  <dc:title>J:</dc:title>
</cp:coreProperties>
</file>