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179-A63D-4A62-AA81-481BB6C1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77C-C2CB-4AED-BF47-D4C99ED2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A3E1-6AB0-499E-AE04-0E42BB51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33E-8CDD-4F92-B91D-73347E14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A76-FE22-4E33-A271-93133ED7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A9A-1749-48F7-BDB8-1FA2538E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6BE-909E-4A15-9FAC-A7793272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1EB-910D-4136-87FE-45454FBF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B4C-65AD-4A64-B077-9A8852ED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942-8AC3-4767-B4FA-44C87C66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3BB-26F9-48C4-A0A4-46F6F7CC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578-C9A6-4EE9-B23C-3CFEF13E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3368-DB48-4716-827E-8DB1A9192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Nous sommes  a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27280" y="692280"/>
            <a:ext cx="46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inon et Just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09:45:50Z</dcterms:created>
  <dc:creator>M Mathieu</dc:creator>
  <dc:description/>
  <dc:language>en-US</dc:language>
  <cp:lastModifiedBy>M Mathieu</cp:lastModifiedBy>
  <dcterms:modified xsi:type="dcterms:W3CDTF">2015-01-19T09:46:21Z</dcterms:modified>
  <cp:revision>1</cp:revision>
  <dc:subject/>
  <dc:title>Diapositive 1</dc:title>
</cp:coreProperties>
</file>