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532-A8DA-468F-A5F9-AA70A9E6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9E4F-C8BF-4A73-9582-445E9B45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8559-361E-447A-830C-943BDE5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B2D-75E0-4AB6-9333-B965E71F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0DE-ECD1-4E63-85AD-B4FC2B0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A10-32D4-4FB3-BBB3-18E09288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7280-3458-4199-BD53-85FE690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4D0-1DA6-4F81-8C49-5701EEA4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801-CEAB-4347-9BFB-F3304700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7E32-3746-4839-860F-8ACDA6C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9A7-651D-480D-AC69-BE1D641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D7FB-4147-4B42-8F64-66831D81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A626-FD6F-4D42-B640-BF27B85F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Nous sommes  a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27280" y="692280"/>
            <a:ext cx="46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inon et Justi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09:45:50Z</dcterms:created>
  <dc:creator>M Mathieu</dc:creator>
  <dc:description/>
  <dc:language>en-US</dc:language>
  <cp:lastModifiedBy>M Mathieu</cp:lastModifiedBy>
  <dcterms:modified xsi:type="dcterms:W3CDTF">2015-01-19T09:46:21Z</dcterms:modified>
  <cp:revision>1</cp:revision>
  <dc:subject/>
  <dc:title>Diapositive 1</dc:title>
</cp:coreProperties>
</file>