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4CF-299B-421F-A3EF-33997AB1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33E-093F-4F7B-8A1E-91E2D7DC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BDB-D738-4492-A819-B98861EF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061-F928-48EE-86A3-F94232AA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55A-A8FA-43B6-9B90-8B272EBA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645-B8AA-4AD1-AE4D-2DAF7EE0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231-20C7-4BC7-B72B-9F9639B2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363-688D-417F-A81C-0934BAF7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1FDB-7906-4ACB-98D2-9B44CBD0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CDC-F6A2-4727-918A-A6594F12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4FD-1E2C-4E13-A8AB-FC9B061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A7F-9761-4DD6-B605-1C000C48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29A3-E8AC-47D8-8C2F-FA8C86503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yl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crocodile mign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241800" cy="306864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tin Luther 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92360" y="4652640"/>
            <a:ext cx="1944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1477000">
            <a:off x="3419640" y="1989000"/>
            <a:ext cx="2328840" cy="24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 REGA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 CASC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43240" y="2543040"/>
            <a:ext cx="5000760" cy="43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5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mains de re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des mus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484280"/>
            <a:ext cx="1523880" cy="15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1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250" autoRev="1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20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4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573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pas b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59280" y="2565360"/>
            <a:ext cx="1955520" cy="22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4:31:59Z</dcterms:created>
  <dc:creator>Ecole Notre Dame de Lourdes</dc:creator>
  <dc:description/>
  <dc:language>en-US</dc:language>
  <cp:lastModifiedBy>Ecole Notre Dame de Lourdes</cp:lastModifiedBy>
  <dcterms:modified xsi:type="dcterms:W3CDTF">2015-02-14T15:09:26Z</dcterms:modified>
  <cp:revision>4</cp:revision>
  <dc:subject/>
  <dc:title>Kylian</dc:title>
</cp:coreProperties>
</file>