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EBF-B4E4-41F1-B790-84EDF757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308-D3AC-4DA0-AF71-0EB0E31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5C3-7432-4582-90EF-A5021C0C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F34-CBA8-47B6-B7C9-E7821ACA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5F4-07DC-4C72-A762-772452F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4E7-99BD-4685-9B98-FBEC5E2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627-286A-4EE0-ABE9-A54BB4E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479-AB2A-4ED9-B67A-AEC1ADF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048-B79A-42E0-BE25-BAFD5BFA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F49-138D-45E1-AA8F-768E266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0E2-4369-44CE-86F8-D7536DB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0A3-CDD5-44FA-895F-8C004B5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424-478E-40F5-AA93-84797A649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y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crocodile mign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241800" cy="30686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Luther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360" y="4652640"/>
            <a:ext cx="1944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1477000">
            <a:off x="3419640" y="1989000"/>
            <a:ext cx="232884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REGA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CAS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3240" y="2543040"/>
            <a:ext cx="500076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ains de re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es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152388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b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195552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4:31:59Z</dcterms:created>
  <dc:creator>Ecole Notre Dame de Lourdes</dc:creator>
  <dc:description/>
  <dc:language>en-US</dc:language>
  <cp:lastModifiedBy>Ecole Notre Dame de Lourdes</cp:lastModifiedBy>
  <dcterms:modified xsi:type="dcterms:W3CDTF">2015-02-14T15:09:26Z</dcterms:modified>
  <cp:revision>4</cp:revision>
  <dc:subject/>
  <dc:title>Kylian</dc:title>
</cp:coreProperties>
</file>