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0EF8-8F5E-4616-9F54-E89169728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7E06-D845-45CC-B654-A4D37EA7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4A3E-23C3-4815-BF57-49F304EA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0B64-2640-479D-9111-EE42CAAD2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21C0-1FDE-42F9-BA3A-19201B46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C775-20A3-436A-9190-643C08C2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5C28-4AE6-4460-BC87-EDB092B4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349F-8715-44DA-9FAE-26E80582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B64C-91AD-407F-A09C-9BB7D30A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DAA8-ADCB-4DE8-A10B-406B6B87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B40D-C6B1-4B2F-B772-9EECB2F8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7AD6-31E2-45FB-A133-CACB401D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B2C0-29F6-4B2E-A5AE-8565E4208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6478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é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ès jolie 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08360" y="1557360"/>
            <a:ext cx="2143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é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530064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nifique bonhomme de nei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132000" y="1628640"/>
            <a:ext cx="287028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é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11280" y="2060640"/>
            <a:ext cx="4130640" cy="2592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58920" y="62064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é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522936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e araigner  qui p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15:12:59Z</dcterms:created>
  <dc:creator>ndl05</dc:creator>
  <dc:description/>
  <dc:language>en-US</dc:language>
  <cp:lastModifiedBy>ndl05</cp:lastModifiedBy>
  <dcterms:modified xsi:type="dcterms:W3CDTF">2015-01-26T15:48:35Z</dcterms:modified>
  <cp:revision>2</cp:revision>
  <dc:subject/>
  <dc:title>Léane</dc:title>
</cp:coreProperties>
</file>