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9097-0421-4E12-BB9C-E2A69749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D42F-76F1-4DFA-B021-FF73E54B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493-3E66-40E0-BC2B-C8BEAAE9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F42-A3B4-4C5A-AE29-D3C127B2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B15-0FDD-4B36-9E75-6FA489A8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6803-4AF7-47A0-B88E-6767B13C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F14-190B-4DD8-9230-3B9321C2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F45-D98F-4CCA-835B-8445E1D1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FB5-F034-4ED9-B19C-394BE674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00E-A4A7-4F45-807F-295C9B42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566-A296-4F08-B540-EF5D3725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FF5-6122-48FC-9808-3B7CDDC8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2CD7-E11D-4BAF-82A1-446D50826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64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é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ès jolie 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08360" y="1557360"/>
            <a:ext cx="2143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é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530064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ifique bonhomme de nei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28702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é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13064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58920" y="62064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é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5229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araigner  qui p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5:12:59Z</dcterms:created>
  <dc:creator>ndl05</dc:creator>
  <dc:description/>
  <dc:language>en-US</dc:language>
  <cp:lastModifiedBy>ndl05</cp:lastModifiedBy>
  <dcterms:modified xsi:type="dcterms:W3CDTF">2015-01-26T15:48:35Z</dcterms:modified>
  <cp:revision>2</cp:revision>
  <dc:subject/>
  <dc:title>Léane</dc:title>
</cp:coreProperties>
</file>