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935A-B17F-458F-8CB0-EE280B4A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910-A55B-4BBE-AA54-DF7102C9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B36-AC8E-4A1B-BD3B-329A2A22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EF8-F77C-4750-82C3-27283A244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7CC-E222-4C3C-A208-27D9A760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FAC-E010-472D-9A37-DFEFC2B8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273-4AE4-4F14-A30D-41B80E28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11A-31A4-496F-B15A-9F983EBC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5D7-89EC-4B69-93DB-EF98A963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2EE-4B9F-496D-8D63-6F94485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A31C-2870-4F21-86B8-FC726206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4F9-8BBF-4283-9849-06F0A597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41DB-A460-47F3-8D56-A5DBC2427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N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64000" y="3573360"/>
            <a:ext cx="2994120" cy="2540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96200" y="4149720"/>
            <a:ext cx="2647800" cy="1609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71640" y="3789360"/>
            <a:ext cx="2647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flipH="1" rot="21003000">
            <a:off x="826560" y="332640"/>
            <a:ext cx="2102040" cy="3121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flipH="1" rot="704400">
            <a:off x="6659280" y="403920"/>
            <a:ext cx="2101680" cy="3121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24360" y="2349360"/>
            <a:ext cx="21812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7 -0.046 -0.16655 -0.113 -0.17188 C -0.177 -0.17854 -0.237 -0.11858 -0.241 -0.03198 C -0.246 0.04797 -0.204 0.12258 -0.144 0.12791 C -0.089 0.13191 -0.037 0.08261 -0.033 0.00799 C -0.029 -0.05996 -0.064 -0.12391 -0.115 -0.12924 C -0.162 -0.13324 -0.206 -0.09194 -0.209 -0.02931 C -0.212 0.02665 -0.184 0.08128 -0.142 0.08394 C -0.104 0.08794 -0.068 0.05596 -0.065 0.00533 C -0.063 -0.03997 -0.084 -0.08394 -0.117 -0.08661 C -0.146 -0.08927 -0.175 -0.06529 -0.177 -0.02665 C -0.179 0.00666 -0.164 0.03864 -0.14 0.0413 C -0.12 0.04397 -0.099 0.02931 -0.098 0.00266 C -0.096 -0.01865 -0.104 -0.0413 -0.119 -0.04397 C -0.131 -0.04397 -0.143 -0.03864 -0.145 -0.02398 C -0.146 -0.01466 -0.144 -0.00533 -0.138 -0.00133 C -0.135 0 -0.133 0 -0.13 -0.00133 E">
                                      <p:cBhvr>
                                        <p:cTn id="6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 MEILLEURS AMIS NOR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3016080"/>
            <a:ext cx="2592360" cy="1616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227640" y="3220920"/>
            <a:ext cx="2610000" cy="1627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924360" y="2830680"/>
            <a:ext cx="165564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08:05:34Z</dcterms:created>
  <dc:creator>Classe de CE1 de M Mathieu</dc:creator>
  <dc:description/>
  <dc:language>en-US</dc:language>
  <cp:lastModifiedBy>Classe de CE1 de M Mathieu</cp:lastModifiedBy>
  <dcterms:modified xsi:type="dcterms:W3CDTF">2015-01-15T08:31:47Z</dcterms:modified>
  <cp:revision>2</cp:revision>
  <dc:subject/>
  <dc:title> LES ANIMAUX</dc:title>
</cp:coreProperties>
</file>