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F9C-1D82-4411-9828-6C6F2D2F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7D4-2DD2-48F8-B2FA-4A0DE58E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8F8-F63E-4429-B147-F82BA48D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A52-F441-4DF7-BB18-A857E14C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C6D-E1F0-4AED-B4E8-B82BFA26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ED9-99F8-4A7A-8F87-E4AD45EA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59B-D983-4DAD-A895-18829C06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880-4576-4EE0-B7E2-A8C0474B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594-A2FC-4F33-8FC5-BED909F5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854-580B-4A25-A25D-119EFEB6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1D7-CE21-4988-99E5-D2C0D752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60B-6319-4EFB-A57D-81521E91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0E70-F9A7-4262-928F-8C0E544D4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N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64000" y="3573360"/>
            <a:ext cx="2994120" cy="2540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96200" y="4149720"/>
            <a:ext cx="2647800" cy="1609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2647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flipH="1" rot="21003000">
            <a:off x="826560" y="332640"/>
            <a:ext cx="2102040" cy="3121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flipH="1" rot="704400">
            <a:off x="6659280" y="403920"/>
            <a:ext cx="2101680" cy="3121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24360" y="2349360"/>
            <a:ext cx="21812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7 -0.046 -0.16655 -0.113 -0.17188 C -0.177 -0.17854 -0.237 -0.11858 -0.241 -0.03198 C -0.246 0.04797 -0.204 0.12258 -0.144 0.12791 C -0.089 0.13191 -0.037 0.08261 -0.033 0.00799 C -0.029 -0.05996 -0.064 -0.12391 -0.115 -0.12924 C -0.162 -0.13324 -0.206 -0.09194 -0.209 -0.02931 C -0.212 0.02665 -0.184 0.08128 -0.142 0.08394 C -0.104 0.08794 -0.068 0.05596 -0.065 0.00533 C -0.063 -0.03997 -0.084 -0.08394 -0.117 -0.08661 C -0.146 -0.08927 -0.175 -0.06529 -0.177 -0.02665 C -0.179 0.00666 -0.164 0.03864 -0.14 0.0413 C -0.12 0.04397 -0.099 0.02931 -0.098 0.00266 C -0.096 -0.01865 -0.104 -0.0413 -0.119 -0.04397 C -0.131 -0.04397 -0.143 -0.03864 -0.145 -0.02398 C -0.146 -0.01466 -0.144 -0.00533 -0.138 -0.00133 C -0.135 0 -0.133 0 -0.13 -0.00133 E">
                                      <p:cBhvr>
                                        <p:cTn id="6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 MEILLEURS AMIS NOR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3016080"/>
            <a:ext cx="2592360" cy="161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227640" y="3220920"/>
            <a:ext cx="2610000" cy="162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924360" y="2830680"/>
            <a:ext cx="165564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08:05:34Z</dcterms:created>
  <dc:creator>Classe de CE1 de M Mathieu</dc:creator>
  <dc:description/>
  <dc:language>en-US</dc:language>
  <cp:lastModifiedBy>Classe de CE1 de M Mathieu</cp:lastModifiedBy>
  <dcterms:modified xsi:type="dcterms:W3CDTF">2015-01-15T08:31:47Z</dcterms:modified>
  <cp:revision>2</cp:revision>
  <dc:subject/>
  <dc:title> LES ANIMAUX</dc:title>
</cp:coreProperties>
</file>