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081A-1192-4848-8122-4101359D4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8CDA-5371-4144-A66A-935D9FE4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19F3-047A-4CDF-AD04-F9FB5727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A8FA-5DA1-4648-8CFC-C36B6F355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4350-AB46-47D6-92EC-30EC83AA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C2C7-9EAD-470C-B21B-7FD415B9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7539-043B-46DE-8AC4-99569040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9086-2F6A-4362-A4BD-27D4C66A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0863-AF2A-4D8F-AD3A-894EA950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3F0F-1ED0-4EBE-9BFD-315D7E29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6FEE-571E-4BED-8976-5A2C55FC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8305-77C3-43D9-9DBA-6AED5FA6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9410-AFE4-4A25-934C-5448F1494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Lou est mon a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1640" y="3789360"/>
            <a:ext cx="6119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be0e3"/>
                </a:solidFill>
                <a:latin typeface="Arial"/>
              </a:rPr>
              <a:t>Je suis comme 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140360" y="404640"/>
            <a:ext cx="13665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9T14:23:47Z</dcterms:created>
  <dc:creator>ndl01</dc:creator>
  <dc:description/>
  <dc:language>en-US</dc:language>
  <cp:lastModifiedBy>ndl01</cp:lastModifiedBy>
  <dcterms:modified xsi:type="dcterms:W3CDTF">2015-02-09T15:06:51Z</dcterms:modified>
  <cp:revision>2</cp:revision>
  <dc:subject/>
  <dc:title>Lou est mon amie</dc:title>
</cp:coreProperties>
</file>