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7D0-F42F-437B-8C0F-7D7FAC7F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B97-8916-4D80-921C-9B06C9AC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941-5CE0-4A20-8992-814E4FEE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CF8-2D28-4281-89F0-821CDE15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DE47-8A8E-4B74-B372-5523F3B0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1A3-0D05-492A-BEB4-D8FC2658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4C14-B3F3-48FC-A3F9-373F21A8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BEA-15F0-4E55-9702-4D58EDCC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8FE-7EAD-42A8-AF61-DBCAF7E4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0C1-2E02-4F94-9341-C721D9E9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8877-92F2-42F2-9058-4B777D17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EF8-ECB2-4B44-9C58-566249E9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610D-1A09-4CBE-B796-219F2D67D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Lou est mon a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1640" y="3789360"/>
            <a:ext cx="6119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be0e3"/>
                </a:solidFill>
                <a:latin typeface="Arial"/>
              </a:rPr>
              <a:t>Je suis comme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40360" y="404640"/>
            <a:ext cx="13665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4:23:47Z</dcterms:created>
  <dc:creator>ndl01</dc:creator>
  <dc:description/>
  <dc:language>en-US</dc:language>
  <cp:lastModifiedBy>ndl01</cp:lastModifiedBy>
  <dcterms:modified xsi:type="dcterms:W3CDTF">2015-02-09T15:06:51Z</dcterms:modified>
  <cp:revision>2</cp:revision>
  <dc:subject/>
  <dc:title>Lou est mon amie</dc:title>
</cp:coreProperties>
</file>