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240-CBFB-4366-A473-6EDBD01E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4E2-1C51-41F3-96DC-FAC38EB3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C94-6020-4321-9E47-86233AC4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1CA-65BB-429D-B26F-BF0496C0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A7D-A3AE-4F67-B6C3-CE649A17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D18-7E47-423E-B53E-A7177F5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0F9-766E-479D-B5C9-52F08A2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D27-A4ED-461E-A4CC-3030CEA0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4FE-56DD-46BD-A2CF-428F8C6C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B9B-AA26-4D87-BF22-C843EDE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503-1B27-4645-8AE9-2E79F57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0F1-3429-4219-AEA4-E5238FC8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CDF1-AB93-4AF6-9B35-75039EF45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Lou et Ni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Arial"/>
              </a:rPr>
              <a:t>Nous sommes a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1319040" cy="197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777080" y="907920"/>
            <a:ext cx="1366920" cy="188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35280" y="907920"/>
            <a:ext cx="20163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2:17:28Z</dcterms:created>
  <dc:creator>ndl01</dc:creator>
  <dc:description/>
  <dc:language>en-US</dc:language>
  <cp:lastModifiedBy>ndl01</cp:lastModifiedBy>
  <dcterms:modified xsi:type="dcterms:W3CDTF">2015-02-12T12:17:54Z</dcterms:modified>
  <cp:revision>2</cp:revision>
  <dc:subject/>
  <dc:title>Lou et Ninon</dc:title>
</cp:coreProperties>
</file>