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60B3-D91C-49A2-868C-E786F5A57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226A-7194-48AE-98E9-2BD9322F6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A0C4-E30E-43B5-812A-F82010407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AE28-BB1F-4EC8-A785-48D4476A3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2804-1136-499E-A7AD-344B1B72B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A4F1-094E-4701-BF5D-E6173E242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54E7-F381-4DCD-A067-91A078833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DB50-8BEC-4CDD-B43E-39BCD03BD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DDF8-38FE-4F79-BE13-B24AD5A01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410E-7F8F-405E-95FB-72D427DB0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942F-01CE-4D57-A58A-CBC849E18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FEA8-FF14-4CFC-8EC6-D2B813E5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BDC97-B15F-4845-9A35-6B123B7914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Arial"/>
              </a:rPr>
              <a:t>Lou et Nin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cc"/>
                </a:solidFill>
                <a:latin typeface="Arial"/>
              </a:rPr>
              <a:t>Nous sommes am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68360" y="836640"/>
            <a:ext cx="1319040" cy="19731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777080" y="907920"/>
            <a:ext cx="1366920" cy="1881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3635280" y="907920"/>
            <a:ext cx="2016360" cy="17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4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4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2T12:17:28Z</dcterms:created>
  <dc:creator>ndl01</dc:creator>
  <dc:description/>
  <dc:language>en-US</dc:language>
  <cp:lastModifiedBy>ndl01</cp:lastModifiedBy>
  <dcterms:modified xsi:type="dcterms:W3CDTF">2015-02-12T12:17:54Z</dcterms:modified>
  <cp:revision>2</cp:revision>
  <dc:subject/>
  <dc:title>Lou et Ninon</dc:title>
</cp:coreProperties>
</file>