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248-45F8-4E7C-AF28-03D30B4F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597-46D3-4F3D-8450-6B1CB1CC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41E-38FE-4183-9BE5-40A27914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712-4D69-49E4-BFB5-0E9FD619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201-C395-43D8-8746-8448AD23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6E9-6AD6-4DBA-AA0F-4B8F2D37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CAB-5A9A-46B2-B5BE-17D7111C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68F-439F-493F-97B3-B1F2C1D4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64D-847B-4D30-9589-CD0DA551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CFC-595E-4B87-AE2C-B696C592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A31-8FC3-4255-8209-B534E052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219-E1DF-4CB2-9072-746239E9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CD22-F506-4802-BE9C-5116CFA83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un âne  joli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2485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oisson est b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4076280"/>
            <a:ext cx="7499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che mange des fle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3633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g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1648800">
            <a:off x="5348160" y="2862000"/>
            <a:ext cx="13687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5:08:28Z</dcterms:created>
  <dc:creator>ndl05</dc:creator>
  <dc:description/>
  <dc:language>en-US</dc:language>
  <cp:lastModifiedBy>ndl05</cp:lastModifiedBy>
  <dcterms:modified xsi:type="dcterms:W3CDTF">2015-02-09T15:37:52Z</dcterms:modified>
  <cp:revision>2</cp:revision>
  <dc:subject/>
  <dc:title>Lou</dc:title>
</cp:coreProperties>
</file>