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31BB-F61E-49B3-89DB-E1BB8EF3B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B494-F583-40B5-A255-F69990A49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FEBB-2071-4E41-B7BE-7D454C070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8C27-19FE-49BD-B5E4-C25EE9C70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C8B6-6F7E-47DE-A84C-4F0DC005E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3DDB-2006-43D8-9E77-E66E8A1AB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57FD-3804-4C7E-940D-76526C524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CDBF-312C-45A8-8B75-BE3018E9B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CF04-A9FD-4223-9313-BCB671969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84BB-40DB-44CF-95B5-2E1F0905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5266-64AB-4ACA-9EED-415585E7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2AB9-95A8-4536-9218-C866E3A5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945D-F756-4282-B803-1C426F9499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’est un âne  joli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140360" y="1628640"/>
            <a:ext cx="24858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poisson est be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050920" y="21337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87280" y="4076280"/>
            <a:ext cx="7499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vache mange des fle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76720" y="1125360"/>
            <a:ext cx="363384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s g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 rot="1648800">
            <a:off x="5348160" y="2862000"/>
            <a:ext cx="136872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9T15:08:28Z</dcterms:created>
  <dc:creator>ndl05</dc:creator>
  <dc:description/>
  <dc:language>en-US</dc:language>
  <cp:lastModifiedBy>ndl05</cp:lastModifiedBy>
  <dcterms:modified xsi:type="dcterms:W3CDTF">2015-02-09T15:37:52Z</dcterms:modified>
  <cp:revision>2</cp:revision>
  <dc:subject/>
  <dc:title>Lou</dc:title>
</cp:coreProperties>
</file>