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58D-1241-4CB0-B876-1EF7BCCA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DD9-8DEB-42B7-931A-02F85379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F87-D00F-43FC-ACC1-A38B2A5A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C97-5BBB-4A43-840E-14810488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588-BD84-48DC-BCF3-BFD3A062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B9A-2EA4-4F8C-A5A1-5E6398E0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8DE-B12C-437E-B097-DE406EC6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241-7644-453C-8D73-43675F49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CCD-B90A-464B-A6E8-80A66A12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535-3219-45C7-A553-F8217DC7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B39-50DB-4460-87AB-7AA6D863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334-8585-4746-9EC3-68DD5335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1A9E-04D0-4F0F-BC49-36948FB8B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un âne  joli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2485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oisson est b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-0.3331 E">
                                      <p:cBhvr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7280" y="4076280"/>
            <a:ext cx="7499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ache mange des fle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1125360"/>
            <a:ext cx="36338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ff"/>
                </a:solidFill>
                <a:latin typeface="Arial"/>
              </a:rPr>
              <a:t>l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Les garçons sont am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1648800">
            <a:off x="3305160" y="2499840"/>
            <a:ext cx="18828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8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L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Maman arosée  les p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50482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5:08:28Z</dcterms:created>
  <dc:creator>ndl05</dc:creator>
  <dc:description/>
  <dc:language>en-US</dc:language>
  <cp:lastModifiedBy>ndl05</cp:lastModifiedBy>
  <dcterms:modified xsi:type="dcterms:W3CDTF">2015-02-16T15:43:04Z</dcterms:modified>
  <cp:revision>3</cp:revision>
  <dc:subject/>
  <dc:title>Lou</dc:title>
</cp:coreProperties>
</file>