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919-42EB-4802-BECD-E0C6E8B9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BA-B6B5-4D0B-A51F-062A236E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E4A-E88F-48CF-804C-625C204C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FBA-A256-435E-9FBE-97F23DAE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442-D96B-4DED-AB5B-D148FA12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C1F-BD7B-4369-BB63-6927A55A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C93-F2A9-474E-8017-87B26E2D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A11-3ED6-4C32-85A0-7DED1ECD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54B-F4A8-4244-9ADB-3671E88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ECB-F91A-46DF-A191-C8F6195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59D-4AC2-4497-A43B-CA0E23A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444-7B75-4430-94B9-64F67979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01A9-59CE-4322-84ED-B48A7727D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 âne  joli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oisson est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1 E">
                                      <p:cBhvr>
                                        <p:cTn id="23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7280" y="4076280"/>
            <a:ext cx="749952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che mange des fle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1125360"/>
            <a:ext cx="36338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00ff"/>
                </a:solidFill>
                <a:latin typeface="Arial"/>
              </a:rPr>
              <a:t>l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Les garçons sont am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1648800">
            <a:off x="3305160" y="2499840"/>
            <a:ext cx="18828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8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L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Arial"/>
              </a:rPr>
              <a:t>Maman arosée  les p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0482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9T15:08:28Z</dcterms:created>
  <dc:creator>ndl05</dc:creator>
  <dc:description/>
  <dc:language>en-US</dc:language>
  <cp:lastModifiedBy>ndl05</cp:lastModifiedBy>
  <dcterms:modified xsi:type="dcterms:W3CDTF">2015-02-16T15:43:04Z</dcterms:modified>
  <cp:revision>3</cp:revision>
  <dc:subject/>
  <dc:title>Lou</dc:title>
</cp:coreProperties>
</file>