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98B-4643-44C7-9BA4-55F739C6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001-29B4-463F-AE1F-203E967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41C-4B6B-4A96-8717-2DDBB8CE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C7C-FF50-4620-87A5-6A2AF9B0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C8A-FC56-479B-80EE-00DB1B25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7A5-1F03-4845-94E2-6C8DD398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E1D-046F-459C-9DA9-133D0CE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1AE-DABF-47F8-A65F-B6A8F71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32D-B9A1-4FE6-8323-BDC5AD4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7AE-B17F-4229-A45D-EBDE091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CE4-8180-4CFF-AE64-816DC09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AC7-7C0F-4435-8851-EF0B07C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7B2-5C12-48C3-AD06-F2F82286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5615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ffcc"/>
                </a:solidFill>
                <a:latin typeface="Arial"/>
              </a:rPr>
              <a:t>Lou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Une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magnif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magnifiqu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2508120" cy="2508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n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5300280"/>
            <a:ext cx="81471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jolie bonhomme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809880" cy="2736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59:38Z</dcterms:created>
  <dc:creator>ndl05</dc:creator>
  <dc:description/>
  <dc:language>en-US</dc:language>
  <cp:lastModifiedBy>ndl05</cp:lastModifiedBy>
  <dcterms:modified xsi:type="dcterms:W3CDTF">2015-01-30T15:30:44Z</dcterms:modified>
  <cp:revision>3</cp:revision>
  <dc:subject/>
  <dc:title>Louane</dc:title>
</cp:coreProperties>
</file>