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02E-A7C4-40DE-B019-96A6F19A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500A-EA9F-47A1-B50A-0431BE74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9EC-6793-4EC4-81C4-F1D182EE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E2E0-B4BC-4A8E-925E-88705A10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79D-4EEA-456A-92B1-5EBF2FC0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469-F177-47E1-854D-DEE6891C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04A-A7A5-4925-B60F-A9D7D70A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A0C-DBF5-4F11-BBA5-7E735C85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E99-DD86-4A9B-8584-46729478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F98-D1FA-4C82-80B7-1FC99F69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A0F-0516-4E1A-A8AD-7244D166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6DA-0D65-4051-9D7C-0321962B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9618-85E9-4D3A-97E0-734B50A50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620280"/>
            <a:ext cx="56152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ffcc"/>
                </a:solidFill>
                <a:latin typeface="Arial"/>
              </a:rPr>
              <a:t>Lou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Une belle cha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08360" y="2276640"/>
            <a:ext cx="2160720" cy="1620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magnifi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39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magnifique c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2508120" cy="25084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hecke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s la nei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5300280"/>
            <a:ext cx="81471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jolie bonhomme de n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809880" cy="2736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blinds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4:59:38Z</dcterms:created>
  <dc:creator>ndl05</dc:creator>
  <dc:description/>
  <dc:language>en-US</dc:language>
  <cp:lastModifiedBy>ndl05</cp:lastModifiedBy>
  <dcterms:modified xsi:type="dcterms:W3CDTF">2015-01-30T15:30:44Z</dcterms:modified>
  <cp:revision>3</cp:revision>
  <dc:subject/>
  <dc:title>Louane</dc:title>
</cp:coreProperties>
</file>