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4069-9451-46B3-8A54-7A5407EBA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215D-A082-4D41-A776-4FF3F5C2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6CF8-BF8B-43D9-ACA7-D0BEA72EE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1E33-F88E-4DE0-87FF-8987AE827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2295-B6B3-46B4-B10D-0C292D06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A63E-E455-46D6-B872-C49BD519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9023-6348-43C7-B44C-B08C0788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2E5C-8209-4217-9494-3194273E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D013-FE74-474A-9049-802B62D7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8A02-9A37-413E-A627-2651B328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03FD-9675-4E76-B0B6-5AEA901A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80A0-6C8E-4720-97B3-570915FC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48BC-CFB5-4363-BFDA-3A0335C48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ël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Arial"/>
              </a:rPr>
              <a:t>Le chat mange la gam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564000" y="1628640"/>
            <a:ext cx="18669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3T14:42:10Z</dcterms:created>
  <dc:creator>ndl01</dc:creator>
  <dc:description/>
  <dc:language>en-US</dc:language>
  <cp:lastModifiedBy>ndl01</cp:lastModifiedBy>
  <dcterms:modified xsi:type="dcterms:W3CDTF">2015-01-23T15:02:50Z</dcterms:modified>
  <cp:revision>2</cp:revision>
  <dc:subject/>
  <dc:title>Maëlys</dc:title>
</cp:coreProperties>
</file>