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31C-6794-4821-BDD4-E0A2B01A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3D0-7ADA-43CE-AB1B-B8D36D7D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C1E-5D3B-4399-B574-0897B740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9BD-FCDB-4EE3-BFA0-88B1FB65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F50-A856-43DB-BAEB-4F42B64B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3CA-4C3E-433F-98FD-5717A4CE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13F-8835-4D42-8338-1AA1D8E8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354-0081-46D7-9647-8A172295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610-EC66-4DDA-84DB-911DC4D0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1E0-F0D6-4ACE-AD31-26778C5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3D0-23DA-4B79-AD0D-0F10EEB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8F0-1F2C-41CE-8A55-1D39D6E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657F-C7D3-415D-B639-3F0F44119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ël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Le chat mange la ga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1866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4:42:10Z</dcterms:created>
  <dc:creator>ndl01</dc:creator>
  <dc:description/>
  <dc:language>en-US</dc:language>
  <cp:lastModifiedBy>ndl01</cp:lastModifiedBy>
  <dcterms:modified xsi:type="dcterms:W3CDTF">2015-01-23T15:02:50Z</dcterms:modified>
  <cp:revision>2</cp:revision>
  <dc:subject/>
  <dc:title>Maëlys</dc:title>
</cp:coreProperties>
</file>