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F6B-D7F3-4B4A-99E8-8A7C7926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5AE-FEAB-4634-BCFB-B874E4FE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7F2-5968-40C0-9C50-87CCB817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279-F10D-421B-8C48-7629DFBB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65D-BB84-4FE4-B1B4-753D3CA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4A0-42A6-4F8D-9014-2065128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76D-D4D5-471F-97AD-439E01FA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9E9-BF42-4715-884B-3E02B9D9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A16-27CE-4BB7-9DC5-92C0626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ECA-BAE4-4880-B8B9-1C476396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91D-BC3D-46D6-B11E-F50F9CFF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4B2-B04A-4715-B236-9056087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5327-50EF-470C-AD1A-98DD35A6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ch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4437000"/>
            <a:ext cx="2476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07:51:24Z</dcterms:created>
  <dc:creator>ndl05</dc:creator>
  <dc:description/>
  <dc:language>en-US</dc:language>
  <cp:lastModifiedBy>ndl05</cp:lastModifiedBy>
  <dcterms:modified xsi:type="dcterms:W3CDTF">2015-01-30T07:51:35Z</dcterms:modified>
  <cp:revision>1</cp:revision>
  <dc:subject/>
  <dc:title>Ma chambre</dc:title>
</cp:coreProperties>
</file>