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D2B3-2F4A-41E6-B264-43DC4DAF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33B0-9C91-4B2A-A27B-B6CE7D9C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F4B1-8018-4BFF-9573-CDBB1FD3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A750-200D-44EF-BA18-8B1DDBC7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97E4-C995-4A8B-AAF8-9D297A8C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EDB3-017A-498C-A31C-3AD86B98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97FD-FDE3-4C0D-B7F2-33596B45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33E0-B76E-4DF0-9A72-246B04FE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DC54-FE14-49BA-9FC9-BDBF920D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6944-53C1-44D3-8161-55A79CD2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2F31-086A-4F27-8F7E-69E77CB1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ADBB-5B79-4071-A9AE-B5A37E6A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70C9-F066-4ADF-80E0-B46EB2D21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 cha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76720" y="4437000"/>
            <a:ext cx="24764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07:51:24Z</dcterms:created>
  <dc:creator>ndl05</dc:creator>
  <dc:description/>
  <dc:language>en-US</dc:language>
  <cp:lastModifiedBy>ndl05</cp:lastModifiedBy>
  <dcterms:modified xsi:type="dcterms:W3CDTF">2015-01-30T07:51:35Z</dcterms:modified>
  <cp:revision>1</cp:revision>
  <dc:subject/>
  <dc:title>Ma chambre</dc:title>
</cp:coreProperties>
</file>