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C51D-E173-4128-A51A-0951246E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D1A3-FB17-45AD-8983-224E2AB1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334-5A43-4330-9836-46A0D8E9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E37A-DC32-40C6-837C-3EE54EDF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944E-997E-441C-A925-D4A84766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9BF-CFD4-472B-B002-36F2BEE7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2600-B7E8-430A-9935-C3006D46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38D8-63CF-48D5-89A0-BEB58F7A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C5BA-D51E-468A-A69A-7336503B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B3D-8102-415B-928D-A9DF668E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F03-6B43-42A4-BA9B-E40CDBBE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BD83-D3F3-477B-9FDA-C9B06D70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23BB-FCE0-439C-B30E-AD2641D9F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x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71640" y="3141720"/>
            <a:ext cx="33847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x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174080"/>
            <a:ext cx="850752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87640" y="1413000"/>
            <a:ext cx="321156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upè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38242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51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7T14:41:51Z</dcterms:created>
  <dc:creator>Ecole Notre Dame de Lourdes</dc:creator>
  <dc:description/>
  <dc:language>en-US</dc:language>
  <cp:lastModifiedBy>Ecole Notre Dame de Lourdes</cp:lastModifiedBy>
  <dcterms:modified xsi:type="dcterms:W3CDTF">2015-01-17T15:08:32Z</dcterms:modified>
  <cp:revision>2</cp:revision>
  <dc:subject/>
  <dc:title>Maxence</dc:title>
</cp:coreProperties>
</file>