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2D8-97F3-4E2F-9DFB-0EEFBCCC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F98-36EE-485D-B079-A400AD3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E30-5E3D-4942-90DB-724C3C32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812-5DA0-4FE0-B819-317A634E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145-CCF4-4AFD-88D3-1B9C3A6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E45-1773-4906-BC6F-8068C70E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7B4-4E44-4A48-A699-CA828B25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578-BA60-43F2-A17A-C79D7C6F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FE0-06B6-462A-9A31-5C32F38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309-ED99-4611-A183-3FE5878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FF1-5A22-4C3E-BEDD-3A0180F7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AD0-EC71-4E0B-B098-75E01A9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E72-E655-4860-850D-65EF0D3BE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384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174080"/>
            <a:ext cx="850752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2115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pè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24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4:41:51Z</dcterms:created>
  <dc:creator>Ecole Notre Dame de Lourdes</dc:creator>
  <dc:description/>
  <dc:language>en-US</dc:language>
  <cp:lastModifiedBy>Ecole Notre Dame de Lourdes</cp:lastModifiedBy>
  <dcterms:modified xsi:type="dcterms:W3CDTF">2015-01-17T15:08:32Z</dcterms:modified>
  <cp:revision>2</cp:revision>
  <dc:subject/>
  <dc:title>Maxence</dc:title>
</cp:coreProperties>
</file>