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5A7-65EB-4585-8DD8-14DDB89D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BFF3-CC06-4049-A86E-CABDCA1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B59-A1ED-4E94-94C6-11CBD7D4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CD9-8923-4EF6-99A6-FC9C6E6E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07F-43E6-4DE3-9E66-6A8AA93D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814-B908-49E3-B273-F041865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FE1-FD4C-48B8-977A-DBA3D541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CF3-A1BB-478B-940E-1E8BB435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BBE-877C-43E3-97E4-3F72EB4B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920-C4C5-45FD-8432-8FB2E8F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F40-B7D3-41DC-BF31-E29E424F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E2C-ADB6-4A1F-B2E7-2E36BDCB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A508-65F7-4FA1-84BE-E92A71D2C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les ch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1857600" cy="2005200"/>
          </a:xfrm>
          <a:prstGeom prst="rect">
            <a:avLst/>
          </a:prstGeom>
          <a:ln w="0">
            <a:noFill/>
          </a:ln>
        </p:spPr>
      </p:pic>
    </p:spTree>
  </p:cSld>
  <p:transition advTm="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95280" y="3789360"/>
            <a:ext cx="843588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une belle cha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14842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 advTm="0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6360" y="5013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mon ch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1844640"/>
            <a:ext cx="2520720" cy="2112840"/>
          </a:xfrm>
          <a:prstGeom prst="rect">
            <a:avLst/>
          </a:prstGeom>
          <a:ln w="0">
            <a:noFill/>
          </a:ln>
        </p:spPr>
      </p:pic>
    </p:spTree>
  </p:cSld>
  <p:transition advTm="0">
    <p:cover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1640" y="3212640"/>
            <a:ext cx="89028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’aime les abric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80000" y="1413000"/>
            <a:ext cx="1584000" cy="101268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Nin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07640" y="4365360"/>
            <a:ext cx="626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J’ai un cheval très b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59280" y="1268280"/>
            <a:ext cx="3039840" cy="3002040"/>
          </a:xfrm>
          <a:prstGeom prst="rect">
            <a:avLst/>
          </a:prstGeom>
          <a:ln w="0">
            <a:noFill/>
          </a:ln>
        </p:spPr>
      </p:pic>
    </p:spTree>
  </p:cSld>
  <p:transition advTm="0"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39:08Z</dcterms:created>
  <dc:creator>ndl01</dc:creator>
  <dc:description/>
  <dc:language>en-US</dc:language>
  <cp:lastModifiedBy>ndl01</cp:lastModifiedBy>
  <dcterms:modified xsi:type="dcterms:W3CDTF">2015-02-16T14:29:39Z</dcterms:modified>
  <cp:revision>4</cp:revision>
  <dc:subject/>
  <dc:title>Ninon</dc:title>
</cp:coreProperties>
</file>