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C6F-BA18-4EE9-BC23-D8747D84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3C4-C9BD-4B1A-BC32-3B2742CA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E0C-B193-4CA6-839C-B6785D17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AA1-0955-47AC-9B9B-98436EC8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5B7-B7BC-4016-954D-4856CE77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230-318F-4E3A-94E4-93DAA8F8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B31-DCA5-4E8A-980C-4AFFADE0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E9C-A46D-46C7-9416-8BE52CF5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915-C494-4A43-B54C-81CD3BC7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8F7-1885-4B63-B00E-929FD78B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2F4-EE7D-4901-A0F8-56D60A3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696-A4A3-4E13-9620-9B0B4A05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6346-8144-4A4C-BBE2-16333F866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es c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1857600" cy="2005200"/>
          </a:xfrm>
          <a:prstGeom prst="rect">
            <a:avLst/>
          </a:prstGeom>
          <a:ln w="0">
            <a:noFill/>
          </a:ln>
        </p:spPr>
      </p:pic>
    </p:spTree>
  </p:cSld>
  <p:transition advTm="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95280" y="3789360"/>
            <a:ext cx="84358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une belle cha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360" y="501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mon ch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2520720" cy="2112840"/>
          </a:xfrm>
          <a:prstGeom prst="rect">
            <a:avLst/>
          </a:prstGeom>
          <a:ln w="0">
            <a:noFill/>
          </a:ln>
        </p:spPr>
      </p:pic>
    </p:spTree>
  </p:cSld>
  <p:transition advTm="0">
    <p:cover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1640" y="3212640"/>
            <a:ext cx="8902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’aime les abri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1584000" cy="10126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Ni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7640" y="4365360"/>
            <a:ext cx="626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J’ai un cheval très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59280" y="1268280"/>
            <a:ext cx="3039840" cy="3002040"/>
          </a:xfrm>
          <a:prstGeom prst="rect">
            <a:avLst/>
          </a:prstGeom>
          <a:ln w="0">
            <a:noFill/>
          </a:ln>
        </p:spPr>
      </p:pic>
    </p:spTree>
  </p:cSld>
  <p:transition advTm="0">
    <p:cover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39:08Z</dcterms:created>
  <dc:creator>ndl01</dc:creator>
  <dc:description/>
  <dc:language>en-US</dc:language>
  <cp:lastModifiedBy>ndl01</cp:lastModifiedBy>
  <dcterms:modified xsi:type="dcterms:W3CDTF">2015-02-16T14:29:39Z</dcterms:modified>
  <cp:revision>4</cp:revision>
  <dc:subject/>
  <dc:title>Ninon</dc:title>
</cp:coreProperties>
</file>