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324-84A7-45A7-8396-4E7BA0EE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EE8-AA40-4AC0-9400-076B4FD9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587-392B-4CE7-91AE-1B485C5D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AF3-19D9-4CCC-B2E1-1D502CC5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809-FB7C-4EC3-82B7-14E27312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75D-AB2C-4F4F-82E1-847C4B4F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F67-EFA4-4535-8E93-02D4D8CF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081-519F-483C-9B54-E3644604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C7D-6315-4F6B-B104-922F7834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DC0-84E3-4C9F-8B10-68B9E602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9D1-AF55-473F-87D5-9315D5A7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835-B536-44B2-AAEB-E247159E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4031-2998-4606-A251-75BB71A90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Nous sommes a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476280"/>
            <a:ext cx="5541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inon et just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0:20:31Z</dcterms:created>
  <dc:creator>MMathieu</dc:creator>
  <dc:description/>
  <dc:language>en-US</dc:language>
  <cp:lastModifiedBy>MMathieu</cp:lastModifiedBy>
  <dcterms:modified xsi:type="dcterms:W3CDTF">2015-01-19T10:20:54Z</dcterms:modified>
  <cp:revision>1</cp:revision>
  <dc:subject/>
  <dc:title>Diapositive 1</dc:title>
</cp:coreProperties>
</file>