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5DC-1882-41DF-961F-B972C948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792A-C440-44F2-8F85-6AA37631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2643-7D26-4AE7-903D-C97E88286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D28A-5F4A-4ACF-959F-DC670F32F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F648-D091-49EA-B5EC-6109611F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42D5-968E-4C68-B3B1-D28986A4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1638-967F-407C-9E66-5C207144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CA5-C7C7-4A77-B890-E6FDCC20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5EF3-DE13-4000-8FAB-9DE32BBA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CD53-4705-4783-B858-D84B5B46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80C4-E1A9-45AD-91C0-E63BB62F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5173-40B4-4070-AE9E-BE68ADE0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DD6A-C1E9-417B-99B8-15D154565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Nous sommes a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79640" y="476280"/>
            <a:ext cx="55418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inon et justi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9T10:20:31Z</dcterms:created>
  <dc:creator>MMathieu</dc:creator>
  <dc:description/>
  <dc:language>en-US</dc:language>
  <cp:lastModifiedBy>MMathieu</cp:lastModifiedBy>
  <dcterms:modified xsi:type="dcterms:W3CDTF">2015-01-19T10:20:54Z</dcterms:modified>
  <cp:revision>1</cp:revision>
  <dc:subject/>
  <dc:title>Diapositive 1</dc:title>
</cp:coreProperties>
</file>