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4A9-15F8-424F-96EB-AB77C2C3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5D5-C39D-4B41-A0D7-46FE07E9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3ECF-2148-4D79-954F-6A6656F9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2851-060F-473B-8E5B-08B4412C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A42-15A7-496A-82BE-AA65B4D8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EB7-55E4-4665-8C87-0EBFEE71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B55-6BFE-435B-A34A-779048D8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CB3-1473-4003-9A31-386FFC74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052-CD36-4DEC-9426-EE4DDE5D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B2A-F09B-4DE8-9568-728CF924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398-1589-4C4E-B4D7-CB5C5C16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C03-2B5C-4C78-A4F5-9C67F9E6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FC08-61BA-4D62-AE28-B4DCB1FA5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b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7020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0360" y="2637000"/>
            <a:ext cx="2305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86240" y="2647800"/>
            <a:ext cx="217152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tin  Luther  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  monsi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35244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4:59:51Z</dcterms:created>
  <dc:creator>ndl05</dc:creator>
  <dc:description/>
  <dc:language>en-US</dc:language>
  <cp:lastModifiedBy>ndl05</cp:lastModifiedBy>
  <dcterms:modified xsi:type="dcterms:W3CDTF">2015-02-13T15:37:53Z</dcterms:modified>
  <cp:revision>3</cp:revision>
  <dc:subject/>
  <dc:title>Norah</dc:title>
</cp:coreProperties>
</file>