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B14-7DC8-4F3F-AFAD-A0ACF90C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FE9-9D8A-45C8-BB61-D6DB4381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2B4-D8DB-4911-998B-5816FAEB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43A-A74F-4B4E-BF54-1F12126D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350-8316-41CF-A3B0-CEFE613D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D61-3806-4198-9BE4-B66D796C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02F-72FF-4D0F-9A51-C1A7EFBC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DF8-F7C4-4227-85AB-FD2384E6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ED1-92FF-4214-8B5E-2538CAE8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A9F-3504-40BF-8FD1-D42B6BE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A29-A9AC-428C-8300-93290C8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844-1632-41C9-B8C5-A6ADD8F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419-628F-4121-A1C7-A54204E07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7020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2305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86240" y="2647800"/>
            <a:ext cx="21715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 Luther 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  monsi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3524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4:59:51Z</dcterms:created>
  <dc:creator>ndl05</dc:creator>
  <dc:description/>
  <dc:language>en-US</dc:language>
  <cp:lastModifiedBy>ndl05</cp:lastModifiedBy>
  <dcterms:modified xsi:type="dcterms:W3CDTF">2015-02-13T15:37:53Z</dcterms:modified>
  <cp:revision>3</cp:revision>
  <dc:subject/>
  <dc:title>Norah</dc:title>
</cp:coreProperties>
</file>