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9F8-CB54-460A-88D6-5B7BEB80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4FC-5C85-4EDD-B7C6-BE0A0FBF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A87-620D-412D-B682-AE3CBBA9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1809-9EB8-4706-875C-C649E1A8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6F2-3055-459E-906A-8C1F228D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2B1B-2B48-4270-B77A-7EA1FCCE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763-7FC2-4A2E-8528-6FB4FC46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EE1-A162-4F8C-9A93-FD2B5BD0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000-6A55-4F2F-9A97-29E1064C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28E-3C1D-4BB8-8680-A4927DD5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044-B6B4-4614-B63B-A975E46D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1C45-968F-4121-87BB-E5EA0C3F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93BC-2D02-4FC1-8868-5AD947403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5000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cha Deruy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705040" cy="2190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2663640" cy="1439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227640" y="1700280"/>
            <a:ext cx="26481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4581000"/>
            <a:ext cx="8064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be0e3"/>
                </a:solidFill>
                <a:latin typeface="Blackadder ITC"/>
              </a:rPr>
              <a:t>Monsieur</a:t>
            </a:r>
            <a:r>
              <a:rPr b="0" lang="en-US" sz="7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bbe0e3"/>
                </a:solidFill>
                <a:latin typeface="Blackadder ITC"/>
              </a:rPr>
              <a:t>circu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3640" y="1916280"/>
            <a:ext cx="320976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4T14:53:33Z</dcterms:created>
  <dc:creator>Monsieur Mathieu</dc:creator>
  <dc:description/>
  <dc:language>en-US</dc:language>
  <cp:lastModifiedBy>Monsieur Mathieu</cp:lastModifiedBy>
  <dcterms:modified xsi:type="dcterms:W3CDTF">2015-02-07T14:33:37Z</dcterms:modified>
  <cp:revision>4</cp:revision>
  <dc:subject/>
  <dc:title>sacha deruyck</dc:title>
</cp:coreProperties>
</file>