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3B1-148C-4E77-AFF9-50BAD0BC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2EF-F963-4C97-B97E-0C8551BE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212-1021-4DAB-BA7C-DE2EFA4A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330-FB42-46F7-B07E-EDFEC86C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066-7BEE-4F9B-9E31-E227123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CF3-B9DB-43BF-A322-87B876B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B76-2CF2-45A3-935D-0DAA2D81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889-B966-4036-9426-A7A62E4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EF8-8A2A-4A54-917A-965CDA9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2ED-EB58-4158-8BE8-7505969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10A-85F8-41CD-A7F9-87CF7F9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D3B-0D0C-454D-BDFB-84C1588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04F-D578-4AFA-A2C3-80853243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ha Deruy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70504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6364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2648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06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be0e3"/>
                </a:solidFill>
                <a:latin typeface="Blackadder ITC"/>
              </a:rPr>
              <a:t>Monsieur</a:t>
            </a:r>
            <a:r>
              <a:rPr b="0" lang="en-US" sz="7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bbe0e3"/>
                </a:solidFill>
                <a:latin typeface="Blackadder ITC"/>
              </a:rPr>
              <a:t>circ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097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14:53:33Z</dcterms:created>
  <dc:creator>Monsieur Mathieu</dc:creator>
  <dc:description/>
  <dc:language>en-US</dc:language>
  <cp:lastModifiedBy>Monsieur Mathieu</cp:lastModifiedBy>
  <dcterms:modified xsi:type="dcterms:W3CDTF">2015-02-07T14:33:37Z</dcterms:modified>
  <cp:revision>4</cp:revision>
  <dc:subject/>
  <dc:title>sacha deruyck</dc:title>
</cp:coreProperties>
</file>