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DAB4-CDA2-435D-8390-6ACD3831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27DA-528E-4952-ABFB-B6005BF8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0B56-E321-4A49-9B0A-ACF7F1A7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285A-3980-47BC-A91A-EC33AB37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BD76-0DC5-462F-BD59-1F17DB78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226E-3796-4F62-9FE5-CC3CD141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2436-C5EE-469D-883E-AFD42449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B25E-9C07-4C84-8041-925F923B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47E2-14B1-4C6D-A78E-30B722CF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794-51A9-48F2-9417-66D8915A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B105-6084-46AB-AD64-267FA15A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66AB-50D3-4E47-BF26-7E47BBD1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4155-79A0-4B54-96FA-6BFFCCFCE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43280" y="260280"/>
            <a:ext cx="361008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Le groupe nom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484280"/>
            <a:ext cx="763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Le groupe nominal contient un nom,un déterminant,et il peut avoir un ou des adjecti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47163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62064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cfa5"/>
                </a:solidFill>
                <a:latin typeface="Arial"/>
              </a:rPr>
              <a:t>Le groupe no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773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9cfa5"/>
                </a:solidFill>
                <a:latin typeface="Arial"/>
              </a:rPr>
              <a:t>Dans le groupe nominal pour le transformer du singulier au pluriel pour le transformer au pluriel il faut rajouter un s ou un x a l’adjectif, et le nom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3933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singu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4149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400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plur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3933720"/>
            <a:ext cx="302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4:35:10Z</dcterms:created>
  <dc:creator>ndl01</dc:creator>
  <dc:description/>
  <dc:language>en-US</dc:language>
  <cp:lastModifiedBy>ndl01</cp:lastModifiedBy>
  <dcterms:modified xsi:type="dcterms:W3CDTF">2015-02-13T15:05:21Z</dcterms:modified>
  <cp:revision>2</cp:revision>
  <dc:subject/>
  <dc:title>Diapositive 1</dc:title>
</cp:coreProperties>
</file>