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602-EA3C-497B-959E-5899CD91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9E9-F5AD-4F01-AB6A-4FB9C863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19C-BD19-4C48-AF1D-2743CD3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AE8-6BFB-47AA-9BEE-46F22407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560-C409-4EA9-AC64-FF1183CF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DD8-EFF0-4B7C-A304-7AA08FB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1ED-CF0A-4307-9D79-B65E708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A51-CF10-4D75-95F9-4A17B9C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7ED-CE62-4D49-A138-8EA29B8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898-E35F-4A5C-9524-001502B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C81-1C44-4562-B0AA-1A0A50F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23B-DF52-42F9-9495-BAFC622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F76-8A9B-4317-8603-8AD809AA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260280"/>
            <a:ext cx="3610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Le groupe no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8428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e groupe nominal contient un nom,un déterminant,et il peut avoir un ou des adjec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7163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cfa5"/>
                </a:solidFill>
                <a:latin typeface="Arial"/>
              </a:rPr>
              <a:t>Le groupe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cfa5"/>
                </a:solidFill>
                <a:latin typeface="Arial"/>
              </a:rPr>
              <a:t>Dans le groupe nominal pour le transformer du singulier au pluriel pour le transformer au pluriel il faut rajouter un s ou un x a l’adjectif, et le no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ingu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0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lu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3933720"/>
            <a:ext cx="302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35:10Z</dcterms:created>
  <dc:creator>ndl01</dc:creator>
  <dc:description/>
  <dc:language>en-US</dc:language>
  <cp:lastModifiedBy>ndl01</cp:lastModifiedBy>
  <dcterms:modified xsi:type="dcterms:W3CDTF">2015-02-13T15:05:21Z</dcterms:modified>
  <cp:revision>2</cp:revision>
  <dc:subject/>
  <dc:title>Diapositive 1</dc:title>
</cp:coreProperties>
</file>