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54BB-1DB4-402C-812D-4B105F361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B71E-4249-4DCB-95B6-01B93B11C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8150-5683-4C17-862B-2647DA4F4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4DAA-32A3-4F14-8390-81E55BF3D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EAE2-C316-4432-ACA9-BE73A5262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5811-350E-4EA3-AFB2-39395881B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546C-F8E4-43EB-A060-12A1BA1F6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DF31-669C-4770-A406-E8EC7B080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D9A1-4835-403B-8896-6DD712950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99A7-70D7-4B9F-8345-8C7E4B123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430C-F5B9-41A7-9468-A86ED79A6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D98A-1E19-41E3-AEA8-AD2D3D2E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D1704-A8B3-4341-88AA-C96F6A9105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ircus"/>
              </a:rPr>
              <a:t>Sach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ric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067280" y="1341360"/>
            <a:ext cx="1143000" cy="2333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700360" y="1268280"/>
            <a:ext cx="4033800" cy="2808360"/>
          </a:xfrm>
          <a:prstGeom prst="cloudCallout">
            <a:avLst>
              <a:gd name="adj1" fmla="val -1004"/>
              <a:gd name="adj2" fmla="val -53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24000" y="4653000"/>
            <a:ext cx="8280360" cy="1946160"/>
            <a:chOff x="324000" y="4653000"/>
            <a:chExt cx="8280360" cy="1946160"/>
          </a:xfrm>
        </p:grpSpPr>
        <p:sp>
          <p:nvSpPr>
            <p:cNvPr id="46" name=""/>
            <p:cNvSpPr/>
            <p:nvPr/>
          </p:nvSpPr>
          <p:spPr>
            <a:xfrm>
              <a:off x="324000" y="4653000"/>
              <a:ext cx="2160720" cy="1873080"/>
            </a:xfrm>
            <a:prstGeom prst="smileyFace">
              <a:avLst>
                <a:gd name="adj" fmla="val -4652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4000" y="4653000"/>
              <a:ext cx="2160360" cy="1873080"/>
            </a:xfrm>
            <a:prstGeom prst="smileyFace">
              <a:avLst>
                <a:gd name="adj" fmla="val 153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444000" y="4725720"/>
              <a:ext cx="2160360" cy="1873440"/>
            </a:xfrm>
            <a:prstGeom prst="smileyFace">
              <a:avLst>
                <a:gd name="adj" fmla="val -465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3000"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7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30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av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626920" y="3933360"/>
            <a:ext cx="3538440" cy="8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ion mir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59280" y="1484280"/>
            <a:ext cx="2663640" cy="2857680"/>
          </a:xfrm>
          <a:prstGeom prst="rect">
            <a:avLst/>
          </a:prstGeom>
          <a:ln w="0">
            <a:noFill/>
          </a:ln>
        </p:spPr>
      </p:pic>
    </p:spTree>
  </p:cSld>
  <p:transition advTm="0">
    <p:wedg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6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ff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252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stioles"/>
              </a:rPr>
              <a:t>abric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11280" y="479700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’abricot est bon pour la san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276720" y="3068640"/>
            <a:ext cx="2449440" cy="1565280"/>
          </a:xfrm>
          <a:prstGeom prst="rect">
            <a:avLst/>
          </a:prstGeom>
          <a:ln w="0">
            <a:noFill/>
          </a:ln>
        </p:spPr>
      </p:pic>
    </p:spTree>
  </p:cSld>
  <p:transition advTm="0">
    <p:wheel spokes="8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4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4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4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J’ai eu 8 ans le 18 janvier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02920" y="2852280"/>
            <a:ext cx="64818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uit ans est l’age de ra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372360" y="1125360"/>
            <a:ext cx="2519280" cy="1648080"/>
          </a:xfrm>
          <a:prstGeom prst="rect">
            <a:avLst/>
          </a:prstGeom>
          <a:ln w="0">
            <a:noFill/>
          </a:ln>
        </p:spPr>
      </p:pic>
    </p:spTree>
  </p:cSld>
  <p:transition advTm="0">
    <p:newsflash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6T14:28:50Z</dcterms:created>
  <dc:creator>ndl01</dc:creator>
  <dc:description/>
  <dc:language>en-US</dc:language>
  <cp:lastModifiedBy>ndl01</cp:lastModifiedBy>
  <dcterms:modified xsi:type="dcterms:W3CDTF">2015-02-13T15:05:25Z</dcterms:modified>
  <cp:revision>5</cp:revision>
  <dc:subject/>
  <dc:title>Sacha</dc:title>
</cp:coreProperties>
</file>