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DC1-DAC8-413B-959A-435143B3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525-D599-4CAD-8F20-59EE086C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74B-DD82-4597-B7A6-DEDBF5C9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DFE-2925-49CF-B84C-8452D1CB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17D-3C2B-4DF0-BF37-C99B526C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B2E-B5FF-4752-9C21-04BF43DE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630-5D8F-4328-9597-2FD03976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5AF-8D2A-41B2-A4A1-A0AD40EB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484-256E-4699-B759-3A16749D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30B-A0F3-4A68-AC69-CB01D8FD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C30-E29A-4475-B4CE-51C0E71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696-D5C9-4929-9352-88E85A8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673E-709D-4589-B761-378CF3189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ircus"/>
              </a:rPr>
              <a:t>Sach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1143000" cy="233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00360" y="1268280"/>
            <a:ext cx="4033800" cy="2808360"/>
          </a:xfrm>
          <a:prstGeom prst="cloudCallout">
            <a:avLst>
              <a:gd name="adj1" fmla="val -1004"/>
              <a:gd name="adj2" fmla="val -5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4000" y="4653000"/>
            <a:ext cx="8280360" cy="1946160"/>
            <a:chOff x="324000" y="4653000"/>
            <a:chExt cx="8280360" cy="1946160"/>
          </a:xfrm>
        </p:grpSpPr>
        <p:sp>
          <p:nvSpPr>
            <p:cNvPr id="46" name=""/>
            <p:cNvSpPr/>
            <p:nvPr/>
          </p:nvSpPr>
          <p:spPr>
            <a:xfrm>
              <a:off x="324000" y="4653000"/>
              <a:ext cx="2160720" cy="1873080"/>
            </a:xfrm>
            <a:prstGeom prst="smileyFace">
              <a:avLst>
                <a:gd name="adj" fmla="val -465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4000" y="4653000"/>
              <a:ext cx="2160360" cy="1873080"/>
            </a:xfrm>
            <a:prstGeom prst="smileyFace">
              <a:avLst>
                <a:gd name="adj" fmla="val 153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44000" y="4725720"/>
              <a:ext cx="2160360" cy="1873440"/>
            </a:xfrm>
            <a:prstGeom prst="smileyFace">
              <a:avLst>
                <a:gd name="adj" fmla="val -465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v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26920" y="3933360"/>
            <a:ext cx="353844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on mir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663640" cy="285768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5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stioles"/>
              </a:rPr>
              <a:t>abric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4797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bricot est bon pour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2449440" cy="1565280"/>
          </a:xfrm>
          <a:prstGeom prst="rect">
            <a:avLst/>
          </a:prstGeom>
          <a:ln w="0">
            <a:noFill/>
          </a:ln>
        </p:spPr>
      </p:pic>
    </p:spTree>
  </p:cSld>
  <p:transition advTm="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’ai eu 8 ans le 18 janvier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2920" y="2852280"/>
            <a:ext cx="6481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uit ans est l’age de 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72360" y="1125360"/>
            <a:ext cx="2519280" cy="1648080"/>
          </a:xfrm>
          <a:prstGeom prst="rect">
            <a:avLst/>
          </a:prstGeom>
          <a:ln w="0">
            <a:noFill/>
          </a:ln>
        </p:spPr>
      </p:pic>
    </p:spTree>
  </p:cSld>
  <p:transition advTm="0">
    <p:newsflash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4:28:50Z</dcterms:created>
  <dc:creator>ndl01</dc:creator>
  <dc:description/>
  <dc:language>en-US</dc:language>
  <cp:lastModifiedBy>ndl01</cp:lastModifiedBy>
  <dcterms:modified xsi:type="dcterms:W3CDTF">2015-02-13T15:05:25Z</dcterms:modified>
  <cp:revision>5</cp:revision>
  <dc:subject/>
  <dc:title>Sacha</dc:title>
</cp:coreProperties>
</file>