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FBA-7044-43E0-9502-12A5E1CD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C8F7-78CD-4177-A149-FC06FDB9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0F80-5DE0-47B6-B485-F25F229C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88D-6595-4F87-AC01-C1FF1175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E51-788A-4A50-9F70-6B5CB232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0A5-F8BD-4D93-AAAF-068B0CF4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0D8-E534-40AC-A4A1-0146497E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273-1737-4A5F-AC8B-DA7E8D5D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698-9412-46E6-99D5-796DFCB1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8C2-1FAA-440B-9D75-9573C498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47D-852F-4CA5-9231-4B235F2F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428-7674-453B-9911-D4BB277B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4E99-DDFA-4AC1-8968-613FC8519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r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cheval drô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246384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ER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63280" y="2852640"/>
            <a:ext cx="619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64000" y="1316160"/>
            <a:ext cx="2808360" cy="2144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19280" y="4292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EST BONNE CE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02 0.00647 L 0.31302 -0.32655 E">
                                      <p:cBhvr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BA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49413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JOLIE B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1879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 MA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4005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MAMAN EST UNE FÉE ET JE L A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08360" y="1125360"/>
            <a:ext cx="1513080" cy="23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48360" y="2781360"/>
            <a:ext cx="685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4:04:49Z</dcterms:created>
  <dc:creator>M Mathieu</dc:creator>
  <dc:description/>
  <dc:language>en-US</dc:language>
  <cp:lastModifiedBy>M Mathieu</cp:lastModifiedBy>
  <dcterms:modified xsi:type="dcterms:W3CDTF">2015-02-06T15:05:08Z</dcterms:modified>
  <cp:revision>4</cp:revision>
  <dc:subject/>
  <dc:title>Sarah</dc:title>
</cp:coreProperties>
</file>