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FDA-8CF1-4BAE-8EDF-DE7E2E80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72F-B07B-463B-BED0-1FDDF0D5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6A8-FAC5-4246-9236-92400A96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A32-7226-4BBB-82EB-96FD8394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7648-F6EB-4B65-96C9-DA7B5D97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C49-3090-48BA-9B7D-1005E66B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FFF-E386-4F2B-B7A1-AB0619CF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91D-0051-4660-BA23-63D64CA5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349-3ED9-4B48-A66F-7198AEC2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063-26BE-4252-A95F-379FCEBB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B64-71CC-4AAB-8566-E58D897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AF5-D5AF-41D8-9F87-C404EBAB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CA50-0862-47F9-A3E5-EEC5B74BA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cheval drô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246384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E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63280" y="2852640"/>
            <a:ext cx="619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64000" y="1316160"/>
            <a:ext cx="2808360" cy="2144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19280" y="4292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EST BONNE CE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00647 L 0.31302 -0.32655 E">
                                      <p:cBhvr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B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49413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JOLIE B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1879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MA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4005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MAMAN EST UNE FÉE ET JE L A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708360" y="1125360"/>
            <a:ext cx="1513080" cy="23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48360" y="2781360"/>
            <a:ext cx="685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4:04:49Z</dcterms:created>
  <dc:creator>M Mathieu</dc:creator>
  <dc:description/>
  <dc:language>en-US</dc:language>
  <cp:lastModifiedBy>M Mathieu</cp:lastModifiedBy>
  <dcterms:modified xsi:type="dcterms:W3CDTF">2015-02-06T15:05:08Z</dcterms:modified>
  <cp:revision>4</cp:revision>
  <dc:subject/>
  <dc:title>Sarah</dc:title>
</cp:coreProperties>
</file>