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5FB-BED2-4225-A4A4-C837121D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D96-F3D2-4DE4-ACBB-7BB2DEDB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0F2-3A2D-4B29-8DBE-08DC69C2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3D6-D040-4351-A19E-897437A7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40F-EBB9-446D-B93A-4B8B318F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C22-7584-41DC-A5B0-0F9BF912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2F9-5D38-4299-8172-81E7A129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922-1440-496B-BAAF-47B17A72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974-46AA-448E-B8E4-97497C96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059-3AA4-4187-97AE-96D6AA76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E38-1319-47C5-A404-538D05EA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264-50E1-4C70-967B-8147523E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B4C9-F5FA-4672-AFF5-616B1EB00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Un petit papil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ls est très bea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80000" y="404640"/>
            <a:ext cx="18270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trop m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84360" y="5445000"/>
            <a:ext cx="14400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i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48000" y="2492280"/>
            <a:ext cx="2049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4:37:37Z</dcterms:created>
  <dc:creator>ndl01</dc:creator>
  <dc:description/>
  <dc:language>en-US</dc:language>
  <cp:lastModifiedBy>ndl01</cp:lastModifiedBy>
  <dcterms:modified xsi:type="dcterms:W3CDTF">2015-02-16T14:50:16Z</dcterms:modified>
  <cp:revision>2</cp:revision>
  <dc:subject/>
  <dc:title>Un petit papillon</dc:title>
</cp:coreProperties>
</file>