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2E9-DCD9-4C28-8EB1-D08D3386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53A-7B21-4DD3-BF96-CCBAB177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45D-F29E-4636-ACDF-3D7143A1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A3D-5EF6-4BA7-ABB0-6C149A19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9C2-C111-4D22-8365-06F09BEE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0C0-5F82-471E-9773-3FE64738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28CE-2411-490F-84BF-090D0B80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4F24-FC35-4D8D-81BA-33CC7BB2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F8F-D5F6-4102-B005-28687B01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E318-ED6F-4017-8B9E-34A7CA6B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EEC6-CA8C-4A12-B5B8-126F6143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2CF-2D5F-4DDC-BD15-11908BFA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8A1D-BB71-4BA9-990E-FF579C93B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Un petit papil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Ils est très bea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80000" y="404640"/>
            <a:ext cx="18270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trop mig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84360" y="5445000"/>
            <a:ext cx="14400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nin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48000" y="2492280"/>
            <a:ext cx="2049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14:37:37Z</dcterms:created>
  <dc:creator>ndl01</dc:creator>
  <dc:description/>
  <dc:language>en-US</dc:language>
  <cp:lastModifiedBy>ndl01</cp:lastModifiedBy>
  <dcterms:modified xsi:type="dcterms:W3CDTF">2015-02-16T14:50:16Z</dcterms:modified>
  <cp:revision>2</cp:revision>
  <dc:subject/>
  <dc:title>Un petit papillon</dc:title>
</cp:coreProperties>
</file>