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55D-2209-4A72-95F2-132EC1C9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B49-09D2-4847-BF20-0041691C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97E-A8EF-4E8B-A5AC-86552D48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64AA-63C8-4F54-97EB-B7985808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EC9-3F6A-42CC-8B22-5B78F527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ED7-730D-4271-8A18-98E67EA0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89E-A759-4755-BFD3-4C9EDEDE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4DEE-B516-4AF1-A2D2-CE766125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43E9-5151-4480-95E2-DC4A2F15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470-5587-4F7C-A8EB-93FCACA5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F56-2E61-40BB-8FEB-37806DA2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DCA3-ADA7-4DF6-BEAE-92AB2AD5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CBD5-F276-4D99-9D41-45BDA1B87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n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nd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63280" y="4868640"/>
            <a:ext cx="6265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 aime les gl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048200" y="1557360"/>
            <a:ext cx="14475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3T15:03:51Z</dcterms:created>
  <dc:creator>ndl05</dc:creator>
  <dc:description/>
  <dc:language>en-US</dc:language>
  <cp:lastModifiedBy>ndl05</cp:lastModifiedBy>
  <dcterms:modified xsi:type="dcterms:W3CDTF">2015-01-29T07:51:25Z</dcterms:modified>
  <cp:revision>4</cp:revision>
  <dc:subject/>
  <dc:title>amandine</dc:title>
</cp:coreProperties>
</file>