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FC96-1217-4D27-BBBF-366EC22AE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EFDC-7921-45F7-BD5F-E590A1C8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9F99-08AC-4051-BACE-438A7BC3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C5FF-AE4E-430E-AB20-2751AD91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A2B8-3767-40F1-BDC6-65BD19C6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6F6E-43E5-4DDA-8086-B90DEB0D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C094-13F5-4FF6-B571-54E25B49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EAEA-5974-4E0E-8856-F9E17004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84CF-F58D-42F5-8111-4BFDDE75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BA8A-02E9-48F1-86F9-CF31227D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CB29-6123-49CE-9E74-F2154387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209C-DA41-431C-B3B0-E7C736CE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C50F-BAC4-4435-8979-0B3BC7B9F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and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and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63280" y="4868640"/>
            <a:ext cx="6265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 aime les gl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048200" y="1557360"/>
            <a:ext cx="144756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3T15:03:51Z</dcterms:created>
  <dc:creator>ndl05</dc:creator>
  <dc:description/>
  <dc:language>en-US</dc:language>
  <cp:lastModifiedBy>ndl05</cp:lastModifiedBy>
  <dcterms:modified xsi:type="dcterms:W3CDTF">2015-01-29T07:51:25Z</dcterms:modified>
  <cp:revision>4</cp:revision>
  <dc:subject/>
  <dc:title>amandine</dc:title>
</cp:coreProperties>
</file>