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AEA5-929F-4CE3-AB07-B1BB1E7EF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9C07-DEAB-4C69-994B-DCEC7713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C60A-4CAA-4850-8B3A-6660C8A7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2E4C-11D4-4A07-973F-67CF812E7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6BDB-6713-4788-8C42-FE47E03B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07DA-AD83-4E6A-8A2F-4DAD515A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CDAF-CF6F-48D4-A3A5-A3C15713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81A2-6A4B-4284-97B5-1A1C6D81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46FD-1D41-4339-ACD6-34889D93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DF6B-5A35-4A3A-BE3D-51DF2DD8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E279-B907-4AF5-8907-A888D85A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6014-D473-4C2F-A0B0-F3EBD14C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099F-D54F-40BA-96F3-0C27254A0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acco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03640" y="1849320"/>
            <a:ext cx="2305080" cy="1949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foot j’ad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iacco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4797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gardien j’ad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6193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acco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214920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6T15:01:42Z</dcterms:created>
  <dc:creator>ndl05</dc:creator>
  <dc:description/>
  <dc:language>en-US</dc:language>
  <cp:lastModifiedBy>ndl05</cp:lastModifiedBy>
  <dcterms:modified xsi:type="dcterms:W3CDTF">2015-02-06T15:33:50Z</dcterms:modified>
  <cp:revision>2</cp:revision>
  <dc:subject/>
  <dc:title>giaccomo</dc:title>
</cp:coreProperties>
</file>