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EEF-D64C-48D5-B1C6-D60694DD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7A6A-3B55-42F6-BCD7-67CFFB85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6708-9416-4760-808E-90835E57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CB5-EF51-4590-A83D-6D3566A9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75D-7124-4AA9-B95A-7EB94FA6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FE9A-B422-4E9D-991E-F05A86BE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AEC-D2BA-49C9-A2DC-09048D54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837-1019-4EFB-AC6A-2C70E6E0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3BC-666E-4CCD-9C34-AB9C8401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D099-5B6E-4FBA-B7F3-A7383753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FA27-3567-46B3-9AF4-34D138EA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716-9042-42B1-8F3A-588EE38B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D2CC-1211-4406-9F3D-998869B91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acc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03640" y="1849320"/>
            <a:ext cx="2305080" cy="1949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foot j’ad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acco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479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gardien j’ad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6193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acc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14920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6T15:01:42Z</dcterms:created>
  <dc:creator>ndl05</dc:creator>
  <dc:description/>
  <dc:language>en-US</dc:language>
  <cp:lastModifiedBy>ndl05</cp:lastModifiedBy>
  <dcterms:modified xsi:type="dcterms:W3CDTF">2015-02-06T15:33:50Z</dcterms:modified>
  <cp:revision>2</cp:revision>
  <dc:subject/>
  <dc:title>giaccomo</dc:title>
</cp:coreProperties>
</file>