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19B-2ABC-4D6E-9995-70D5D7FE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4E62-B9D8-4095-8537-0C94EDB5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7AE-7893-4079-95FB-AB7436CD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1F3-8EF0-4BC5-9781-2374FE66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38F-B2BC-4329-BCF6-E46AFC81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EFD-41C2-4D3E-974B-927708BB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8F5-8F97-43DE-85A6-EEC2E503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C0F-558E-4E20-92F8-FD54B60A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C9B-4812-4BFE-8FED-96EC207A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2CC-3E76-4E52-9B02-84993E4B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1DF-8F6E-431D-9CD0-60A83379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D78D-741C-4CDB-9A13-C5AD2B3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5417-BC3F-48ED-B268-DE01CE9E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013000"/>
            <a:ext cx="5792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s i mon ar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64000" y="2133720"/>
            <a:ext cx="1387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50000">
              <a:srgbClr val="f8b049"/>
            </a:gs>
            <a:gs pos="100000">
              <a:srgbClr val="fc9f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87640" y="1268280"/>
            <a:ext cx="35290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panda mange du ban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362412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5:25:03Z</dcterms:created>
  <dc:creator>ndl05</dc:creator>
  <dc:description/>
  <dc:language>en-US</dc:language>
  <cp:lastModifiedBy>ndl05</cp:lastModifiedBy>
  <dcterms:modified xsi:type="dcterms:W3CDTF">2015-01-30T15:49:56Z</dcterms:modified>
  <cp:revision>2</cp:revision>
  <dc:subject/>
  <dc:title>hadrien</dc:title>
</cp:coreProperties>
</file>