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44C-4753-497D-AE75-E7E4141C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655-9206-47F2-B80F-00B0388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053-65DE-4F80-9F6D-63C6A55E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7E5-D540-439E-92D4-D712707A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0C0-6E1D-4C31-908D-103D9C38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C41-6EBB-4677-A6A0-955CC65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EF7-6671-4893-A28E-1C84851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8CA-45FB-496A-9A34-0B644DF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076-5FB0-4150-8578-6410482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75F-0419-4BFF-BD19-15C9056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58D-2A25-4D09-800E-80FF145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A01-26CD-4A5B-86EE-3C6D36E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1270-3FF7-4F87-BAF0-A52270C2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013000"/>
            <a:ext cx="5792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s i mon a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1387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529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nda mange du ban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3624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5:25:03Z</dcterms:created>
  <dc:creator>ndl05</dc:creator>
  <dc:description/>
  <dc:language>en-US</dc:language>
  <cp:lastModifiedBy>ndl05</cp:lastModifiedBy>
  <dcterms:modified xsi:type="dcterms:W3CDTF">2015-01-30T15:49:56Z</dcterms:modified>
  <cp:revision>2</cp:revision>
  <dc:subject/>
  <dc:title>hadrien</dc:title>
</cp:coreProperties>
</file>