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8E5-2253-4317-BE75-DF297056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98E-DC7A-4AEC-AACA-E1B63D3C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09E-83C6-4311-B0C6-73635A74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9CA-8F9A-4208-BCDB-A83B2DDE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1037-8DBF-4452-85B5-956D19BB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8AC-D125-4682-BB43-C3561DCF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233F-0417-4672-88D6-D0A7B6F6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723E-7A4F-41ED-B195-D1E755F6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4C9-9E7E-4079-A16C-62A16EC0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0C6-ED41-47FE-9C99-6C4524B0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30C-CAD9-4C65-8DA3-FCF79BCE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0AA-83FB-4DF9-BF86-42154245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0580-AE4A-4744-B867-B2877E550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 aime 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2371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’ iame la balan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4383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è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 aime la n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2565360"/>
            <a:ext cx="25700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14:42:07Z</dcterms:created>
  <dc:creator>MMathieu</dc:creator>
  <dc:description/>
  <dc:language>en-US</dc:language>
  <cp:lastModifiedBy>MMathieu</cp:lastModifiedBy>
  <dcterms:modified xsi:type="dcterms:W3CDTF">2015-01-23T15:14:36Z</dcterms:modified>
  <cp:revision>2</cp:revision>
  <dc:subject/>
  <dc:title>ines</dc:title>
</cp:coreProperties>
</file>