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0B68-20AB-47EE-86D3-ECDB8416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AB29-4F10-4C8A-BC9F-9612834D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8D73-36A8-49B3-86B9-8BE0D390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A4A2-B3FB-4AF0-B585-C2CCCA11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04BA-DD2F-4C9C-9520-811AE890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DAD4-9238-478A-835D-F8F1C5A8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6C3C-2F67-4389-A74D-8F2142A6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BD82-A9F1-4463-8590-FA2367B6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B78F-64D5-4F46-8003-FD3997D3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FC1-E07E-4A7A-86C4-A536E4FA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69CE-B39E-4D54-92A6-BC507F59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697C-DD9C-4FDA-BD5F-977833CA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8D7A-FEF9-4ADF-8DAA-6BD264E79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 aime la conf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19640" y="1413000"/>
            <a:ext cx="23716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’ iame la balan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34383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è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 aime la ne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76720" y="2565360"/>
            <a:ext cx="25700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3T14:42:07Z</dcterms:created>
  <dc:creator>MMathieu</dc:creator>
  <dc:description/>
  <dc:language>en-US</dc:language>
  <cp:lastModifiedBy>MMathieu</cp:lastModifiedBy>
  <dcterms:modified xsi:type="dcterms:W3CDTF">2015-01-23T15:14:36Z</dcterms:modified>
  <cp:revision>2</cp:revision>
  <dc:subject/>
  <dc:title>ines</dc:title>
</cp:coreProperties>
</file>