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328-6A90-4BDA-8D92-A714C2BBE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78D-CC58-4FE9-9650-38E67A4C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2AF-8FFC-42F7-AAC1-08AE1783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320-25CC-4C4C-85E8-2889E52F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508-08DF-42F2-990C-78F3CE57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CC1-7282-4AB6-A52A-59266CBA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1B7-D217-451F-8087-65DB2EC3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23C-8CBD-4F5E-96C7-01491C5E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6FF-B39C-4D40-AFA3-3013A937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033-1110-4DA6-AA2D-E9996965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3FF-22E6-4C86-B7B0-7B02C55C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6AC-999B-4D94-84C2-822D06D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68A3-4571-4434-8610-8AFFD0F00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key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48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lin.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2705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43280" y="1197000"/>
            <a:ext cx="5210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686440" y="5084640"/>
            <a:ext cx="2062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60760" y="1197000"/>
            <a:ext cx="3568680" cy="3816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2000" y="5373720"/>
            <a:ext cx="40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A  une bale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491520" cy="2904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42920" y="472428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l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9T14:11:24Z</dcterms:created>
  <dc:creator>M Mathieu</dc:creator>
  <dc:description/>
  <dc:language>en-US</dc:language>
  <cp:lastModifiedBy>ndl05</cp:lastModifiedBy>
  <dcterms:modified xsi:type="dcterms:W3CDTF">2015-02-06T15:46:59Z</dcterms:modified>
  <cp:revision>3</cp:revision>
  <dc:subject/>
  <dc:title>keyra</dc:title>
</cp:coreProperties>
</file>