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E34-DDA9-4A3B-861A-92D1B8BD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190-5499-4BC1-AC57-1586505C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90D-79BE-4C2A-9456-93479773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CB9-738B-4683-B619-F621DA32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0FF-1F58-4BBF-97C3-9EEAD52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918-F302-4D2B-A751-CDED8B8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8FC-290C-492C-B5EF-072A5DD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B77-5785-4091-B147-4E8747C3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3E5-8DFA-4426-9A77-2143435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CFF-0039-45BC-8865-C3959AA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F27-0E5B-4671-94DA-E8DB786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533-0872-44E7-BD70-6B1947F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305-4F56-4339-AF49-862384AF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in.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5210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86440" y="5084640"/>
            <a:ext cx="206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0760" y="1197000"/>
            <a:ext cx="3568680" cy="38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537372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A  une bale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91520" cy="290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42920" y="4724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11:24Z</dcterms:created>
  <dc:creator>M Mathieu</dc:creator>
  <dc:description/>
  <dc:language>en-US</dc:language>
  <cp:lastModifiedBy>ndl05</cp:lastModifiedBy>
  <dcterms:modified xsi:type="dcterms:W3CDTF">2015-02-06T15:46:59Z</dcterms:modified>
  <cp:revision>3</cp:revision>
  <dc:subject/>
  <dc:title>keyra</dc:title>
</cp:coreProperties>
</file>