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F93-A64E-4D07-B997-152A6EDB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D46-3CB9-40D2-957D-F05123DD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EEC-887F-42ED-9B69-59D284F4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BC9-513E-4367-951D-EEAA63DB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678-8261-44C8-9BA7-F4EC67E5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5BA-A803-45DE-819E-091ED499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344-14E2-4FF7-9D86-A4BD9A9C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950-01BD-4703-AC5E-0C12E603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EDC-4D95-4483-9F86-43510519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225-2F83-49F9-AC19-14CF11BC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ECA-6F42-4249-8DD8-CC578EC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393-BAAC-4ED7-8E24-8E9D96B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55D3-2BA1-49C4-98D7-F746E772B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48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2705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5210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4:11:24Z</dcterms:created>
  <dc:creator>M Mathieu</dc:creator>
  <dc:description/>
  <dc:language>en-US</dc:language>
  <cp:lastModifiedBy>M Mathieu</cp:lastModifiedBy>
  <dcterms:modified xsi:type="dcterms:W3CDTF">2015-01-19T15:06:32Z</dcterms:modified>
  <cp:revision>2</cp:revision>
  <dc:subject/>
  <dc:title>keyra</dc:title>
</cp:coreProperties>
</file>