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DFE4-096E-47BA-9592-92F7B291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4B9-2C45-42E4-9921-B9C30E35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8121-67CF-4DA6-B0C8-014A91F4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F5D4-3E08-430F-BEFE-CD6B94DC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0766-3EE5-443A-8077-24AD7988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26B3-4FDD-4003-9F1B-11EE5D62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C025-D26E-4F46-980B-13FABEE5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225B-ECE8-4EA6-A824-03094072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D320-C846-4D59-B53D-0B7AE053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43CE-8128-4CDE-9FDC-A4C5D3C2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A36-754F-421B-AF96-90E766AF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9DA1-6308-4B0B-B902-B1E4A666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2E55-EC95-46F0-84AA-58C572B98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34800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l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27050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43280" y="1197000"/>
            <a:ext cx="52102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b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14:11:24Z</dcterms:created>
  <dc:creator>M Mathieu</dc:creator>
  <dc:description/>
  <dc:language>en-US</dc:language>
  <cp:lastModifiedBy>M Mathieu</cp:lastModifiedBy>
  <dcterms:modified xsi:type="dcterms:W3CDTF">2015-01-19T15:06:32Z</dcterms:modified>
  <cp:revision>2</cp:revision>
  <dc:subject/>
  <dc:title>keyra</dc:title>
</cp:coreProperties>
</file>