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9BE9-AF5D-4E09-833D-C3C49030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E36-AC0F-4AE2-812D-FDC4C4B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AE1-B395-4873-B3EC-60D1F4EF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E47-5593-4547-8492-40B9D5EF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54BE-DA58-4D7E-86C7-F99B7A63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95B-1FE9-43FD-9639-6A5845B7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CA0-C47C-4F92-9367-209B5DE7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3B7-FE8B-4E00-85FB-E70E77B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238-3586-4E29-81AF-35E25A2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2BF-89EB-40F9-935E-A497EF84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297-9D87-4890-919C-CE444D0D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05E-830E-465A-933B-AED4A89F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2E0-53CB-4D9B-8EFC-9745D933F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84692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t’aime  Emma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76360" y="155736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252108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12:32:56Z</dcterms:created>
  <dc:creator>Monsieur Mathieu</dc:creator>
  <dc:description/>
  <dc:language>en-US</dc:language>
  <cp:lastModifiedBy>Monsieur Mathieu</cp:lastModifiedBy>
  <dcterms:modified xsi:type="dcterms:W3CDTF">2015-03-25T10:13:56Z</dcterms:modified>
  <cp:revision>2</cp:revision>
  <dc:subject/>
  <dc:title>Je t’aime  Emma b</dc:title>
</cp:coreProperties>
</file>