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34CA-5BC0-416C-B0FF-873CBA027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8D0A-5D8B-402D-90E4-8D8D72907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A184-5402-4911-981C-366DACD7C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37CB-D80B-4B0B-AFE0-6188605A3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67EF-E217-4A5E-B903-CDFE9554C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0BFA-E38B-4B9B-9EC9-11B561A10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BE94-7D32-4627-9125-7E0596F5E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62F1-E36D-45EA-A981-29FFC9D65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CC65-C843-4265-9092-F6E768D05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BCCF-7BFE-41D9-BA30-F0D64089E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9D38-01A3-4915-82FD-73FA60719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8670-1916-4987-A47D-4025FE4E1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BC471-6055-46C1-B600-C477977254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280" y="188640"/>
            <a:ext cx="7846920" cy="15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e t’aime  Emma 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364000" y="1341360"/>
            <a:ext cx="3456000" cy="25923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476360" y="1557360"/>
            <a:ext cx="3311640" cy="24829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68360" y="4149720"/>
            <a:ext cx="2521080" cy="24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11T12:32:56Z</dcterms:created>
  <dc:creator>Monsieur Mathieu</dc:creator>
  <dc:description/>
  <dc:language>en-US</dc:language>
  <cp:lastModifiedBy>Monsieur Mathieu</cp:lastModifiedBy>
  <dcterms:modified xsi:type="dcterms:W3CDTF">2015-03-25T10:13:56Z</dcterms:modified>
  <cp:revision>2</cp:revision>
  <dc:subject/>
  <dc:title>Je t’aime  Emma b</dc:title>
</cp:coreProperties>
</file>