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D16-05C5-4AA3-8D7F-5078B337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155-0115-42AB-B969-7ADD2351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67A-7471-4C45-AD52-31340EBD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353-2534-4C31-9E58-3781D78F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FEB-67E8-45E2-AF10-D245DE23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3D3-5082-482B-A3A9-0EC89EC7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F70-5024-4218-BEFC-2A48CF43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68B-B1D2-4E5D-AD23-0C69F529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CD2-83CD-4AC7-A259-88B3BCDB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CFA-EC31-4392-BAF7-693EB5AE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FE3-9067-4812-BADA-0562B13D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00C-2504-4D13-A862-1680C93C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24C0-7A47-4512-B09F-C567FA0AB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7T14:09:12Z</dcterms:created>
  <dc:creator>Ecole Notre Dame de Lourdes</dc:creator>
  <dc:description/>
  <dc:language>en-US</dc:language>
  <cp:lastModifiedBy>Ecole Notre Dame de Lourdes</cp:lastModifiedBy>
  <dcterms:modified xsi:type="dcterms:W3CDTF">2015-01-17T14:09:13Z</dcterms:modified>
  <cp:revision>1</cp:revision>
  <dc:subject/>
  <dc:title> Maxence</dc:title>
</cp:coreProperties>
</file>