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00C-6595-4943-BA76-45B5103A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F25-255A-4368-8E11-6AAC08C4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4F6-D753-4EB7-8064-C368EAC8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60E-5D0D-47C4-9872-B1F17D6B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173-9F84-4430-ABBB-26225D5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02D-A2E5-418A-88D8-BC5E485F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89E-CEB1-43A3-8BF1-1A3C4B37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E0B-E364-402C-8216-A7BFB69B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DF54-842D-42D3-BDDA-15BF3CDE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984-C2E1-4C5B-ACB0-F1F67DAB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FB8-05B0-4644-825F-566C02A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D5F-54E8-4B18-B654-3C637CB3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C56-E8F4-4ECC-A603-D3650EBB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x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7T14:09:12Z</dcterms:created>
  <dc:creator>Ecole Notre Dame de Lourdes</dc:creator>
  <dc:description/>
  <dc:language>en-US</dc:language>
  <cp:lastModifiedBy>Ecole Notre Dame de Lourdes</cp:lastModifiedBy>
  <dcterms:modified xsi:type="dcterms:W3CDTF">2015-01-17T14:09:13Z</dcterms:modified>
  <cp:revision>1</cp:revision>
  <dc:subject/>
  <dc:title> Maxence</dc:title>
</cp:coreProperties>
</file>