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BD1-896D-45C5-8C7B-D12E016725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BA3-31D9-433B-9BF1-69646CCD898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DB2-5BB2-4F47-B360-48EA6D98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3BD-A30D-4973-B154-AA18C97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EDC-ECCA-4E3C-A2EB-8218217C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5EE-5D3D-464C-8608-9EFF342C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0CEB7-3783-4192-8A1F-5B66AC99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1C8CD-8172-423C-AE8D-141F787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B8E58-CA06-44C3-8A26-1B82816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B04CC-B9EE-4EC3-BB3F-79629BE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0791B-890F-48FA-A9AA-3F2976D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4BD53-72AE-4339-B376-C156664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4F8D-611E-4E64-A585-7DE187C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5A0-30B1-4CE2-BB62-9BF5509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C0E41-195B-4BE6-80D4-FB72A6E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372C-8B40-464A-BB45-427AA7C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198EA-8E83-44F2-836A-7D235F3F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9356A-FC9F-40B5-B309-92B062A9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782C-615C-455B-8234-03DDD436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C0A-8410-411D-B814-F8BF9547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6FA-D705-4164-ADF5-7B5BD61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E0D-0798-4EAF-8402-4F955DC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CA0-ECD6-4FF9-932F-62704F31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5DE-0693-4E3F-B6AB-C8ECF32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4A9-8231-4AEA-93FC-D586AAA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EB2-9BE3-4B4A-A5A8-72DE225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CF99-DB11-4F09-95C9-7D533AE42D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C3C1-0253-40D0-B703-A107B35225D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128520" y="2127240"/>
            <a:ext cx="8820360" cy="189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rose"/>
          <p:cNvPicPr/>
          <p:nvPr/>
        </p:nvPicPr>
        <p:blipFill>
          <a:blip r:embed="rId1"/>
          <a:stretch/>
        </p:blipFill>
        <p:spPr>
          <a:xfrm>
            <a:off x="2987640" y="625320"/>
            <a:ext cx="3384720" cy="3418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4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rose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200" spc="-1" strike="noStrike">
                <a:solidFill>
                  <a:srgbClr val="02303e"/>
                </a:solidFill>
                <a:latin typeface="Arial"/>
              </a:rPr>
              <a:t>American</a:t>
            </a:r>
            <a:r>
              <a:rPr b="0" lang="fr-FR" sz="4600" spc="-1" strike="noStrike">
                <a:solidFill>
                  <a:srgbClr val="02303e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2303e"/>
                </a:solidFill>
                <a:latin typeface="Arial"/>
              </a:rPr>
              <a:t>flag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2" descr="http://www.tiersmonde.net/photos/groupes/drapeau_usa.jpg"/>
          <p:cNvPicPr/>
          <p:nvPr/>
        </p:nvPicPr>
        <p:blipFill>
          <a:blip r:embed="rId1"/>
          <a:stretch/>
        </p:blipFill>
        <p:spPr>
          <a:xfrm>
            <a:off x="1332000" y="1916280"/>
            <a:ext cx="6451560" cy="411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roudAmericanEagleSm"/>
          <p:cNvPicPr/>
          <p:nvPr/>
        </p:nvPicPr>
        <p:blipFill>
          <a:blip r:embed="rId1"/>
          <a:stretch/>
        </p:blipFill>
        <p:spPr>
          <a:xfrm>
            <a:off x="1763640" y="765000"/>
            <a:ext cx="53182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fr.novopress.info/wp-content/uploads/2009/07/doll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35280" y="1413000"/>
            <a:ext cx="317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3399"/>
                </a:solidFill>
                <a:latin typeface="Arial"/>
              </a:rPr>
              <a:t>Uncle Sam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2" descr="http://www.lessignets.com/signetsdiane/calendrier/images/mars/13/Uncle_Sam_pointing_finger11.jpg"/>
          <p:cNvPicPr/>
          <p:nvPr/>
        </p:nvPicPr>
        <p:blipFill>
          <a:blip r:embed="rId1"/>
          <a:stretch/>
        </p:blipFill>
        <p:spPr>
          <a:xfrm>
            <a:off x="324000" y="514440"/>
            <a:ext cx="47196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milisoft.pagesperso-orange.fr/stuff/assets/images/statue_liberte.jpg"/>
          <p:cNvPicPr/>
          <p:nvPr/>
        </p:nvPicPr>
        <p:blipFill>
          <a:blip r:embed="rId1"/>
          <a:stretch/>
        </p:blipFill>
        <p:spPr>
          <a:xfrm>
            <a:off x="395280" y="576360"/>
            <a:ext cx="6337440" cy="5022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360" y="4653000"/>
            <a:ext cx="4427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3399"/>
                </a:solidFill>
                <a:latin typeface="Arial"/>
              </a:rPr>
              <a:t>statue of liberty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7" descr=""/>
          <p:cNvPicPr/>
          <p:nvPr/>
        </p:nvPicPr>
        <p:blipFill>
          <a:blip r:embed="rId1"/>
          <a:stretch/>
        </p:blipFill>
        <p:spPr>
          <a:xfrm>
            <a:off x="-212760" y="-23760"/>
            <a:ext cx="9363240" cy="1949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31720" y="2924280"/>
            <a:ext cx="785520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0" descr="311001"/>
          <p:cNvPicPr/>
          <p:nvPr/>
        </p:nvPicPr>
        <p:blipFill>
          <a:blip r:embed="rId2"/>
          <a:stretch/>
        </p:blipFill>
        <p:spPr>
          <a:xfrm>
            <a:off x="1258920" y="2133720"/>
            <a:ext cx="7508880" cy="42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374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there are 136 million French speakers.</a:t>
            </a:r>
            <a:br>
              <a:rPr sz="38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there are 375 million English speakers. </a:t>
            </a:r>
            <a:br>
              <a:rPr sz="38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 there are more English speakers than French speakers.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55640" y="3284640"/>
            <a:ext cx="4248360" cy="25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The Oxford French-English dictionary features over 90,000 words </a:t>
            </a:r>
            <a:r>
              <a:rPr b="0" lang="fr-FR" sz="3500" spc="-1" strike="noStrike">
                <a:solidFill>
                  <a:srgbClr val="e3e3ff"/>
                </a:solidFill>
                <a:latin typeface="Arial"/>
              </a:rPr>
              <a:t>and 120,000 translations.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4" descr="http://www.decitre.fr/gi/85/9782012805385FS.gif"/>
          <p:cNvPicPr/>
          <p:nvPr/>
        </p:nvPicPr>
        <p:blipFill>
          <a:blip r:embed="rId1"/>
          <a:stretch/>
        </p:blipFill>
        <p:spPr>
          <a:xfrm>
            <a:off x="468360" y="1125360"/>
            <a:ext cx="3166920" cy="484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3e3ff"/>
                </a:solidFill>
                <a:latin typeface="Arial"/>
              </a:rPr>
              <a:t>Transparent words :</a:t>
            </a:r>
            <a:br>
              <a:rPr sz="3100"/>
            </a:b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6364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ccid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lbu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nci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olla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rt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Colleg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iffer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extre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262240" y="2633760"/>
            <a:ext cx="4979880" cy="115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3849840" y="2429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849480" y="41522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glish words used </a:t>
            </a:r>
            <a:r>
              <a:rPr b="0" lang="en-US" sz="4600" spc="-1" strike="noStrike">
                <a:solidFill>
                  <a:srgbClr val="003399"/>
                </a:solidFill>
                <a:latin typeface="Arial"/>
              </a:rPr>
              <a:t>in 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rench</a:t>
            </a:r>
            <a:r>
              <a:rPr b="0" lang="en-US" sz="4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Barm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Best of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Expr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Coo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Feeling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Gentlem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interview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re 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480" y="2389320"/>
            <a:ext cx="7777440" cy="324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b8cfff"/>
                </a:solidFill>
                <a:latin typeface="Arial"/>
              </a:rPr>
              <a:t>The o</a:t>
            </a:r>
            <a:r>
              <a:rPr b="0" lang="fr-FR" sz="4400" spc="-1" strike="noStrike">
                <a:solidFill>
                  <a:srgbClr val="b8cfff"/>
                </a:solidFill>
                <a:latin typeface="Arial"/>
              </a:rPr>
              <a:t>rigins  of  English come from German and North Europ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re 1" descr=""/>
          <p:cNvPicPr/>
          <p:nvPr/>
        </p:nvPicPr>
        <p:blipFill>
          <a:blip r:embed="rId1"/>
          <a:stretch/>
        </p:blipFill>
        <p:spPr>
          <a:xfrm>
            <a:off x="66600" y="689040"/>
            <a:ext cx="8255160" cy="1431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7777440" cy="154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5000"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a bad bush is better  than the open field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un méchant buisson abrite mieux que rase campagne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A bird in the hand is worth two  in the bush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Un tien vaut mieux deux tu l'aura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530280" y="401760"/>
            <a:ext cx="8510400" cy="2805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1720" y="2924280"/>
            <a:ext cx="785520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2516309327_1"/>
          <p:cNvPicPr/>
          <p:nvPr/>
        </p:nvPicPr>
        <p:blipFill>
          <a:blip r:embed="rId2"/>
          <a:stretch/>
        </p:blipFill>
        <p:spPr>
          <a:xfrm>
            <a:off x="2771640" y="321300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re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133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vivre-et-aimer.org/media/angleterre.gif"/>
          <p:cNvPicPr/>
          <p:nvPr/>
        </p:nvPicPr>
        <p:blipFill>
          <a:blip r:embed="rId2"/>
          <a:stretch/>
        </p:blipFill>
        <p:spPr>
          <a:xfrm>
            <a:off x="1258920" y="1844640"/>
            <a:ext cx="6913440" cy="461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armoiries"/>
          <p:cNvPicPr/>
          <p:nvPr/>
        </p:nvPicPr>
        <p:blipFill>
          <a:blip r:embed="rId1"/>
          <a:stretch/>
        </p:blipFill>
        <p:spPr>
          <a:xfrm>
            <a:off x="2700360" y="907920"/>
            <a:ext cx="3672000" cy="3086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71280" y="4233600"/>
            <a:ext cx="6399000" cy="1795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Coat of royal arms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lion"/>
          <p:cNvPicPr/>
          <p:nvPr/>
        </p:nvPicPr>
        <p:blipFill>
          <a:blip r:embed="rId1"/>
          <a:stretch/>
        </p:blipFill>
        <p:spPr>
          <a:xfrm>
            <a:off x="2843280" y="765000"/>
            <a:ext cx="3941640" cy="3110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967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lion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71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dog of England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british-bulldog"/>
          <p:cNvPicPr/>
          <p:nvPr/>
        </p:nvPicPr>
        <p:blipFill>
          <a:blip r:embed="rId1"/>
          <a:stretch/>
        </p:blipFill>
        <p:spPr>
          <a:xfrm>
            <a:off x="2627280" y="638280"/>
            <a:ext cx="3816360" cy="38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cup-of-tea"/>
          <p:cNvPicPr/>
          <p:nvPr/>
        </p:nvPicPr>
        <p:blipFill>
          <a:blip r:embed="rId1"/>
          <a:stretch/>
        </p:blipFill>
        <p:spPr>
          <a:xfrm rot="385800">
            <a:off x="5672160" y="911160"/>
            <a:ext cx="2954160" cy="2216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-973440" y="4365360"/>
            <a:ext cx="7993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cup of tea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http://img.dailymail.co.uk/i/pix/2007/10_03/piggy_468x321.jpg"/>
          <p:cNvPicPr/>
          <p:nvPr/>
        </p:nvPicPr>
        <p:blipFill>
          <a:blip r:embed="rId2"/>
          <a:stretch/>
        </p:blipFill>
        <p:spPr>
          <a:xfrm rot="21303000">
            <a:off x="826560" y="907920"/>
            <a:ext cx="3889440" cy="2668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1440" y="22280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ph_bus5_droite"/>
          <p:cNvPicPr/>
          <p:nvPr/>
        </p:nvPicPr>
        <p:blipFill>
          <a:blip r:embed="rId1"/>
          <a:srcRect l="-538" t="-391" r="-538" b="-391"/>
          <a:stretch/>
        </p:blipFill>
        <p:spPr>
          <a:xfrm>
            <a:off x="1258920" y="289080"/>
            <a:ext cx="6769080" cy="5886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4248000" cy="2421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2303e"/>
                </a:solidFill>
                <a:latin typeface="Arial"/>
              </a:rPr>
              <a:t>The double decker of   Engl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phone-booth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phonebooth"/>
          <p:cNvPicPr/>
          <p:nvPr/>
        </p:nvPicPr>
        <p:blipFill>
          <a:blip r:embed="rId1"/>
          <a:stretch/>
        </p:blipFill>
        <p:spPr>
          <a:xfrm>
            <a:off x="2916360" y="47628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8:14:13Z</dcterms:created>
  <dc:creator>constant</dc:creator>
  <dc:description/>
  <dc:language>en-US</dc:language>
  <cp:lastModifiedBy>sandrine huet</cp:lastModifiedBy>
  <dcterms:modified xsi:type="dcterms:W3CDTF">2010-10-20T14:12:23Z</dcterms:modified>
  <cp:revision>54</cp:revision>
  <dc:subject/>
  <dc:title>English and French </dc:title>
</cp:coreProperties>
</file>