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29E4-B432-430D-A693-5B70C0E0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3E9-99E2-4717-972A-0E2EDCF3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C26-221F-47F7-97EC-21BF1A31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E5A9-6F12-43B5-A167-34B2DD44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FDD2-7B22-4D49-BC60-14FB559C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F21-6894-4669-BB54-F1357DA2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BE5-97CB-45B3-99B6-6FB1BE3C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DC6-B28D-44D5-A2D1-4215C229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759-CD2F-4DDA-A629-6BF96B7E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C93-1679-4B06-BEBC-C5480D54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F36-F68B-409A-95B4-B6247E17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43AE-86C1-4482-BE9F-B479F57E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BEBE-2E46-4243-9D8C-3E2933EBD6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5157720"/>
            <a:ext cx="511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éo et Arth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773360"/>
            <a:ext cx="63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S DIEUX GRE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61080" cy="4322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0464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333360"/>
            <a:ext cx="302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Grecs croyaient en des centaines de dieux, qui avaient tous des pouvo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ér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2565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croyaient en plusieurs Dieux, on dit qu’ils  éta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3716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lythéi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4581360"/>
            <a:ext cx="806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81360"/>
            <a:ext cx="8496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mi ces dieux, 12 sont plus puissants et vivent sur le mont Olympe, la plus haute montagne de Grèce. Zeus est le chef de l’Olym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aque dieu joue un rôle dans un domaine précis : l’amour, les voyages, l’agriculture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1960" y="836640"/>
            <a:ext cx="3873240" cy="394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796000" y="4941720"/>
            <a:ext cx="2827440" cy="1447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84720" y="1125360"/>
            <a:ext cx="17989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052640"/>
            <a:ext cx="3555720" cy="374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84720" y="5084640"/>
            <a:ext cx="21798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5640" y="3500280"/>
            <a:ext cx="26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éid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de la M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ant un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la main, tra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royaume des m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son char d’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43240" y="1341360"/>
            <a:ext cx="3426120" cy="345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88000" y="5157720"/>
            <a:ext cx="2232000" cy="1270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00000" y="1413000"/>
            <a:ext cx="2522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3641760" cy="3252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96000" y="4653000"/>
            <a:ext cx="1760400" cy="1096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724360" y="1413000"/>
            <a:ext cx="24274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3708360" cy="3517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64000" y="4797360"/>
            <a:ext cx="2016360" cy="1482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1557360"/>
            <a:ext cx="30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mès 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mess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Zeus. Il 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dieu des Voyageu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Commerç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des Vol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769440" cy="566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12 PRINCIPAUX DIEUX GRE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8T19:23:51Z</dcterms:created>
  <dc:creator>qlubic7</dc:creator>
  <dc:description/>
  <dc:language>en-US</dc:language>
  <cp:lastModifiedBy>qlubic7</cp:lastModifiedBy>
  <dcterms:modified xsi:type="dcterms:W3CDTF">2016-03-14T19:03:09Z</dcterms:modified>
  <cp:revision>8</cp:revision>
  <dc:subject/>
  <dc:title>Diapositive 1</dc:title>
</cp:coreProperties>
</file>