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B5E-BFA8-4BFB-B25C-C7F9CA99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941-FC36-4C26-A686-FEE34D87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D66-2221-4C3A-84A2-74D0D7D8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C27-0812-4E47-A6E9-8C21B9F8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FB0-03E1-48DD-A4C4-CF6ECBBF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7E4-FAF5-4C88-9B7F-BB3D8F1E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BE7-6AFB-4831-A26C-D2A0B288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3B0-729B-43A6-8EE0-B984E029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A20-AF07-4FE8-8CC6-664DBEDB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FBD-BA5D-4931-A9B9-E58C70B4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466-A9F8-495B-BEF9-A5E13901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D0D-4E04-41A3-B532-A154C32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EC80-D95E-4EBD-9521-FFE2D1EE66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5157720"/>
            <a:ext cx="511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éo et Arth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773360"/>
            <a:ext cx="633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S DIEUX GRE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61080" cy="432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0464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333360"/>
            <a:ext cx="30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Grecs croyaient en des centaines de dieux, qui avaient tous des pouvo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ér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5653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 croyaient en plusieurs Dieux, on dit qu’ils  éta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716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ythéi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581360"/>
            <a:ext cx="80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81360"/>
            <a:ext cx="8496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mi ces dieux, 12 sont plus puissants et vivent sur le mont Olympe, la plus haute montagne de Grèce. Zeus est le chef de l’Olym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que dieu joue un rôle dans un domaine précis : l’amour, les voyages, l’agriculture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1960" y="836640"/>
            <a:ext cx="3873240" cy="394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96000" y="4941720"/>
            <a:ext cx="282744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84720" y="1125360"/>
            <a:ext cx="17989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052640"/>
            <a:ext cx="3555720" cy="374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84720" y="5084640"/>
            <a:ext cx="21798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350028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éid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de la M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ant un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la main, tra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royaume des m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son char d’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43240" y="1341360"/>
            <a:ext cx="3426120" cy="345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88000" y="5157720"/>
            <a:ext cx="2232000" cy="127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00000" y="1413000"/>
            <a:ext cx="2522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3641760" cy="3252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96000" y="4653000"/>
            <a:ext cx="176040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724360" y="1413000"/>
            <a:ext cx="24274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3708360" cy="351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4797360"/>
            <a:ext cx="2016360" cy="1482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1557360"/>
            <a:ext cx="30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mès 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mess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Zeus. Il 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dieu des Voyageu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Commerç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des Vol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769440" cy="5668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12 PRINCIPAUX DIEUX GR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8T19:23:51Z</dcterms:created>
  <dc:creator>qlubic7</dc:creator>
  <dc:description/>
  <dc:language>en-US</dc:language>
  <cp:lastModifiedBy>qlubic7</cp:lastModifiedBy>
  <dcterms:modified xsi:type="dcterms:W3CDTF">2016-03-14T19:03:09Z</dcterms:modified>
  <cp:revision>8</cp:revision>
  <dc:subject/>
  <dc:title>Diapositive 1</dc:title>
</cp:coreProperties>
</file>