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44BC-7C89-41E7-9EAD-3A10AAC3B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F276-7675-4788-97D3-CE5DF04E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7FB2-30D8-42F9-A7C7-755FA539B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114D-954D-4ED1-A339-1EC136E23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8E0E-28D8-4B81-AA8F-449583A2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1980-A0B1-4BEB-88E9-DB1F2F5B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393C-B8D2-43C8-87A5-C5F661A7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2BF7-DDA4-4F66-B094-FA2DC79B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5501-99D5-4298-9D4A-9000A0DF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93D6-8CC6-45E9-8F06-2038B825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3630-F2E2-4495-A291-182C9D77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DEC9-0FD7-43A5-8B6C-54572E12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AD96-5CDA-41D8-8245-F8DDD3E91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-364320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ojet 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abriquer des catapultes; défi pour la classe qui pourra évoluer en un défi inter éco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-262260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-1601640"/>
            <a:ext cx="914400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oint du programme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 Réalisation d'un objet technique. Les lev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92280"/>
            <a:ext cx="914400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cepts à constru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cipe du levier : Le point d'appui, la longueur du bras de levier, la force exercée sur le br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mpétences visé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chnologi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- Réaliser un objet technique. Mettre en œuvre une démarche expérimenta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            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Observer l'objet construit et faire des hypothèses sur son efficacit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ngue ora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- Prendre la parole dans le groupe. Faire un compte rendu de l'activit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ion d'écri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- Faire un schéma légendé. Ecrire des phrases d'argum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Ecrire la règle d'un je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thématiqu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Utiliser les mesures de longueur, évaluer un ordre de grande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654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70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MAR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Times New Roman"/>
              </a:rPr>
              <a:t>SEANCE 1 </a:t>
            </a:r>
            <a:r>
              <a:rPr b="0" lang="fr-FR" sz="1200" spc="-1" strike="noStrike" u="sng">
                <a:solidFill>
                  <a:srgbClr val="000000"/>
                </a:solidFill>
                <a:uFillTx/>
                <a:latin typeface="Times New Roman"/>
              </a:rPr>
              <a:t>- 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Times New Roman"/>
              </a:rPr>
              <a:t>Situation de dé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ituation de départ : En lien avec l ’Histoire, présentation d’extraits vidéo dans lesquels nous voyons l’utilisation de catapultes (Gladiator par exemple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résentation du défi : Fabriquer un engin qui pourra lancer une balle de tennis le plus loin possible. Le départ de la balle sera déclenché par l'action de trois doig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nsigne 1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: Nous allons écrire un texte qui précise les règles du concours (matériaux, temps de réalisation, limites du terrain, outils utilisés...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nsigne 2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: Chacun de vous doit faire un schéma de son engin et la liste du matériel nécessaire en précisant s'il a la matériel ou les outils à la maison ou s'il souhaite que le maître ou un camarade lui fournisse. Vous pouvez expliquer le fonctionnement par des phras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 u="sng">
                <a:solidFill>
                  <a:srgbClr val="000000"/>
                </a:solidFill>
                <a:uFillTx/>
                <a:latin typeface="Times New Roman"/>
              </a:rPr>
              <a:t>SEANCE 2 et 3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: première phase de constr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Le maître regroupe les élèves à partir des premiers schémas de la séance 1 qui sont affichés. (9 groupes de trois élèves)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Mise en commun et problématisation autour des schémas : Cerner les impossibilités, les nécessités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1400" spc="-1" strike="noStrike" baseline="30000">
                <a:solidFill>
                  <a:srgbClr val="000000"/>
                </a:solidFill>
                <a:latin typeface="Times New Roman"/>
              </a:rPr>
              <a:t>ère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phase : construction avec les matériaux et les outils fournis par les enfants, l’enseignan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nsigne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: Vous avez 2 séances pour réaliser votre eng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Vous devrez ensuite évaluer sa performance et la justifier. Vous ferez de même pour les engins des autres grou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Quelles modifications doit-on faire et quels matériaux doit-on utiliser pour améliorer les performances de notre engin ? Quelles variables peut-on modifier ? (longueur du bras, situation des élastique, cran d’arrêt pour stopper le bras…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 u="sng">
                <a:solidFill>
                  <a:srgbClr val="000000"/>
                </a:solidFill>
                <a:uFillTx/>
                <a:latin typeface="Times New Roman"/>
              </a:rPr>
              <a:t>SEANCE 4 –Déf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onsigne : A partir des observations et des tests réalisés, repérer ce qui fait que certaines catapultes sont les meilleur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Times New Roman"/>
              </a:rPr>
              <a:t>Nature et contenu des traces permettant l'acquisition et la structuration des connaissances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ynthèse collective et schémas à partir des productions des différentes séan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380880"/>
            <a:ext cx="8153640" cy="60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 dé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 dois inventer puis construire une machine qui permette de propulser une balle de tennis le plus loin possi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s règles du jeu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que équipe est composée de 3 bricoleurs qui réaliseront 1 essai chac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u peux te faire aider par ton équipe ou ton maître mais pas par tes parents pour construire la machi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u pourras maintenir la machine au sol à l’aide des pieds ou des main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 faut déclencher la machine en se servant de 2 doigts (ou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 balle ne doit pas sortir d’un couloir de 4 mètres de large. L’essai serait alors annulé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’équipe a le droit à 3 essai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 longueur du tir sera mesurée à l’endroit où la balle touchera le sol pour la première foi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us les matériaux sont autorisés sauf : les ressorts et le matériel électriqu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6228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doc1" descr=""/>
          <p:cNvPicPr/>
          <p:nvPr/>
        </p:nvPicPr>
        <p:blipFill>
          <a:blip r:embed="rId1"/>
          <a:stretch/>
        </p:blipFill>
        <p:spPr>
          <a:xfrm>
            <a:off x="0" y="60480"/>
            <a:ext cx="7162920" cy="6797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162920" y="380880"/>
            <a:ext cx="1828800" cy="51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ga expérience Nathan Mini catapulte qui permet de faire varier la longueur du bras de levier et la puissance en fonction du nombre de bracelets élastiqu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emple à garder sous le coude pour les équipes en difficulté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2T13:09:33Z</dcterms:created>
  <dc:creator>regis gaudemer</dc:creator>
  <dc:description/>
  <dc:language>en-US</dc:language>
  <cp:lastModifiedBy> REGIS</cp:lastModifiedBy>
  <dcterms:modified xsi:type="dcterms:W3CDTF">2009-12-02T07:52:47Z</dcterms:modified>
  <cp:revision>8</cp:revision>
  <dc:subject/>
  <dc:title>Présentation PowerPoint</dc:title>
</cp:coreProperties>
</file>