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597-95F8-4AD4-A0B4-21914EA2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FAC-1CCC-4F38-AB59-53FB4BBD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401-8BE7-4226-A1BD-F562E886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AAFC-F3F4-43B5-BB6A-D6E3EFCE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D2C-74FC-4695-BFCF-DB8F81D3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A59-9427-4AD7-9192-996D38B7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513-931A-4997-8691-67877F97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ABE-C77A-461F-9DB4-14EFD331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3FB-C048-41CF-B964-6AE1F6C7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28A-6D2F-4D6E-B3C6-B9D39C1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361-44AA-47BE-A8AD-942DCEEB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677-7EE9-4E8C-989C-55BAB35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B9CC-F3CF-4F97-8546-DC6798FE7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-36432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ojet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abriquer des catapultes; défi pour la classe qui pourra évoluer en un défi inter éc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-262260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60164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int du programm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 Réalisation d'un objet technique. Les lev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92280"/>
            <a:ext cx="9144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ncepts à constr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e du levier : Le point d'appui, la longueur du bras de levier, la force exercée sur le b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étences visé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i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- Réaliser un objet technique. Mettre en œuvre une démarche expériment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    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bserver l'objet construit et faire des hypothèses sur son efficac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ngue ora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- Prendre la parole dans le groupe. Faire un compte rendu de l'activ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d'écr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- Faire un schéma légendé. Ecrire des phrases d'argu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crire la règle d'un j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hématiqu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Utiliser les mesures de longueur, évaluer un ordre de grand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65480"/>
            <a:ext cx="9144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70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MA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NCE 1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- 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ituation de dé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tuation de départ : En lien avec l ’Histoire, présentation d’extraits vidéo dans lesquels nous voyons l’utilisation de catapultes (Gladiator par exemple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résentation du défi : Fabriquer un engin qui pourra lancer une balle de tennis le plus loin possible. Le départ de la balle sera déclenché par l'action de trois doig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igne 1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Nous allons écrire un texte qui précise les règles du concours (matériaux, temps de réalisation, limites du terrain, outils utilisés..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igne 2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Chacun de vous doit faire un schéma de son engin et la liste du matériel nécessaire en précisant s'il a la matériel ou les outils à la maison ou s'il souhaite que le maître ou un camarade lui fournisse. Vous pouvez expliquer le fonctionnement par des phr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NCE 2 et 3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: première phase de 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maître regroupe les élèves à partir des premiers schémas de la séance 1 qui sont affichés. (9 groupes de trois élèves)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ise en commun et problématisation autour des schémas : Cerner les impossibilités, les nécessité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Times New Roman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phase : construction avec les matériaux et les outils fournis par les enfants, l’enseignan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Consign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: Vous avez 2 séances pour réaliser votre eng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ous devrez ensuite évaluer sa performance et la justifier. Vous ferez de même pour les engins des autres grou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modifications doit-on faire et quels matériaux doit-on utiliser pour améliorer les performances de notre engin ? Quelles variables peut-on modifier ? (longueur du bras, situation des élastique, cran d’arrêt pour stopper le bras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ANCE 4 –Déf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nsigne : A partir des observations et des tests réalisés, repérer ce qui fait que certaines catapultes sont les meilleur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ture et contenu des traces permettant l'acquisition et la structuration des connaissances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nthèse collective et schémas à partir des productions des différentes séan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80880"/>
            <a:ext cx="815364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 dé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 dois inventer puis construire une machine qui permette de propulser une balle de tennis le plus loin pos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 règles du je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que équipe est composée de 3 bricoleurs qui réaliseront 1 essai chac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 peux te faire aider par ton équipe ou ton maître mais pas par tes parents pour construire la mach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 pourras maintenir la machine au sol à l’aide des pieds ou des mai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faut déclencher la machine en se servant de 2 doigts (ou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balle ne doit pas sortir d’un couloir de 4 mètres de large. L’essai serait alors annulé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équipe a le droit à 3 essa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longueur du tir sera mesurée à l’endroit où la balle touchera le sol pour la première foi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us les matériaux sont autorisés sauf : les ressorts et le matériel électriq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6228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doc1" descr=""/>
          <p:cNvPicPr/>
          <p:nvPr/>
        </p:nvPicPr>
        <p:blipFill>
          <a:blip r:embed="rId1"/>
          <a:stretch/>
        </p:blipFill>
        <p:spPr>
          <a:xfrm>
            <a:off x="0" y="60480"/>
            <a:ext cx="7162920" cy="679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162920" y="380880"/>
            <a:ext cx="18288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ga expérience Nathan Mini catapulte qui permet de faire varier la longueur du bras de levier et la puissance en fonction du nombre de bracelets élastiq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mple à garder sous le coude pour les équipes en difficulté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09:33Z</dcterms:created>
  <dc:creator>regis gaudemer</dc:creator>
  <dc:description/>
  <dc:language>en-US</dc:language>
  <cp:lastModifiedBy> REGIS</cp:lastModifiedBy>
  <dcterms:modified xsi:type="dcterms:W3CDTF">2009-12-02T07:52:47Z</dcterms:modified>
  <cp:revision>8</cp:revision>
  <dc:subject/>
  <dc:title>Présentation PowerPoint</dc:title>
</cp:coreProperties>
</file>