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gif" ContentType="image/gif"/>
  <Override PartName="/ppt/media/image1.png" ContentType="image/png"/>
  <Override PartName="/ppt/media/image15.gif" ContentType="image/gif"/>
  <Override PartName="/ppt/media/image7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8.jpeg" ContentType="image/jpeg"/>
  <Override PartName="/ppt/media/image9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958B-06CB-49C4-A88B-537D82B795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C618-2AEA-4011-8FD0-4667C1353F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8E0B-5D20-4796-9DDC-081F188464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2BF6-9E74-45FD-9EF0-D1B219D984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9A3D-40F5-4E67-AA54-468750B002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416B-0F46-4166-BCED-4938798830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F632-9C4E-44FD-B1D8-484E185FF8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4404-F69C-4162-9EFF-3BEF5377F0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6D75-1E1A-4F13-9F17-124A38BB29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B99C-5202-49D8-B732-54F54A766A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9BF5-1061-446C-A785-B4DBEFA452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17B-55A9-45B0-B759-A9A637BC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774-4FBD-4D61-B8C6-3476EEC6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890-E225-4D18-AD75-93F05D34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5F04-0C12-4D43-B7E6-004C1E09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265B-0821-41B1-9887-A196A37F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62F1-66F2-4128-8DD6-F5CA53F6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C415-AB1E-4499-AB03-310D2D0A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77FB-8B41-4A30-88C4-7B9FC789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1238-96A1-4B9F-8162-C5FDD1C0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2A10-8ED7-41B9-9BDF-30AFAF70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6256-3B1F-42ED-8119-9FAB10B3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594-6FCE-4C2D-8A12-48F2F68A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71F0-6EB5-4CD2-8345-A16E6051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0966-654E-48E7-B46C-F5132F7E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2CDB-7226-45B5-A22C-1F3B5B1A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CBB0-7088-4865-93DB-2774E1C8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573D-05D0-491D-A0D9-D216E211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1395-4A64-4164-AC0C-F6E82FBE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96A-08FA-4725-9B1B-27851883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418-A2BC-442D-ABE9-71C572C4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25D-CA0E-4C9A-867F-19211582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9BE1-B6D6-4F6B-9CD1-58C6BF23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F43-0455-4FDC-85B7-88820275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50A-36F9-4C7E-99EC-2C26422A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93C6-DBBA-43ED-B938-2F8D19707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EBE1-0125-4CE0-B588-8566CAEC3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557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omic Sans MS"/>
              </a:rPr>
              <a:t>La préhistoi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7280" y="32126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s outils du paléolith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index_caverne"/>
          <p:cNvPicPr/>
          <p:nvPr/>
        </p:nvPicPr>
        <p:blipFill>
          <a:blip r:embed="rId1"/>
          <a:stretch/>
        </p:blipFill>
        <p:spPr>
          <a:xfrm>
            <a:off x="0" y="3038400"/>
            <a:ext cx="4314960" cy="3819600"/>
          </a:xfrm>
          <a:prstGeom prst="rect">
            <a:avLst/>
          </a:prstGeom>
          <a:ln w="0">
            <a:noFill/>
          </a:ln>
        </p:spPr>
      </p:pic>
      <p:sp>
        <p:nvSpPr>
          <p:cNvPr id="161" name="ZoneTexte 4"/>
          <p:cNvSpPr/>
          <p:nvPr/>
        </p:nvSpPr>
        <p:spPr>
          <a:xfrm>
            <a:off x="5643720" y="585792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atista ferreira Leid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ernard-cuisinier Delph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arin Jul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00"/>
                </a:solidFill>
                <a:latin typeface="Comic Sans MS"/>
              </a:rPr>
              <a:t>Vrai - fau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554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hommes préhistoriques avaient des pistolet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Un biface est un silex taillé des deux cotés et qui coupe bie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s éclats étaient des pierres précieuse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 la fabrication des outils, les hommes préhistoriques possédaient une machin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e galet aménagé est un outil du paléolithique permettant le cassage d’o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4" descr="prehistoire"/>
          <p:cNvPicPr/>
          <p:nvPr/>
        </p:nvPicPr>
        <p:blipFill>
          <a:blip r:embed="rId1"/>
          <a:stretch/>
        </p:blipFill>
        <p:spPr>
          <a:xfrm>
            <a:off x="6084720" y="2781360"/>
            <a:ext cx="2165400" cy="3657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00"/>
                </a:solidFill>
                <a:latin typeface="Comic Sans MS"/>
              </a:rPr>
              <a:t>L’utilisation du diaporam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440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Nous utiliserons ce diaporama en classe de CE2 afin d’interroger les élèves sur leurs représentations des outils et des armes des hommes de la préhistoi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ans cette séance nous travaillerons sur la période paléolithique de la préhistoi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Chaque outil ou arme sera projeté au tableau et les élèves énuméreront leurs hypothèses          sur leur fonction, leur matière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1" descr="C:\Users\leidy romain\Desktop\014.gif"/>
          <p:cNvPicPr/>
          <p:nvPr/>
        </p:nvPicPr>
        <p:blipFill>
          <a:blip r:embed="rId1"/>
          <a:stretch/>
        </p:blipFill>
        <p:spPr>
          <a:xfrm>
            <a:off x="5670720" y="-222120"/>
            <a:ext cx="2365200" cy="2365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00"/>
                </a:solidFill>
                <a:latin typeface="Comic Sans MS"/>
              </a:rPr>
              <a:t>Par la suite 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999720"/>
            <a:ext cx="828684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 terminer cette séquence sur la préhistoire, il serait intéressant de faire manipuler les enfants  sur les différents outils de cette époqu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our se faire nous pourrions organiser une sortie dans un centre nommé « A la poursuite de la préhistoire »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e centre propose de faire observer, manipuler, expérimenter des outils, des armes,…tout ce qui pouvait exister à cette époque. Ces différentes activités permettraient aux élèves d’être actifs et de se faire une représentation visuelle du mode de vie des hommes préhistoriqu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L’adresses de ce centre est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:http://lespep56.lespep.org/e_upload/pdf/a_la_poursuite_de_la_prehistoire.pd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bebe_arc"/>
          <p:cNvPicPr/>
          <p:nvPr/>
        </p:nvPicPr>
        <p:blipFill>
          <a:blip r:embed="rId1"/>
          <a:stretch/>
        </p:blipFill>
        <p:spPr>
          <a:xfrm>
            <a:off x="7072200" y="4697280"/>
            <a:ext cx="1862280" cy="216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00"/>
                </a:solidFill>
                <a:latin typeface="Comic Sans MS"/>
              </a:rPr>
              <a:t>Les armes et outils du paléolithiqu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95640" y="2276640"/>
            <a:ext cx="446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els armes et outils utilisent les hommes préhistorique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mment les fabriquent-il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Quels matériaux sont utilisé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 quoi servent-il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6" descr="outiln33"/>
          <p:cNvPicPr/>
          <p:nvPr/>
        </p:nvPicPr>
        <p:blipFill>
          <a:blip r:embed="rId1"/>
          <a:stretch/>
        </p:blipFill>
        <p:spPr>
          <a:xfrm>
            <a:off x="684360" y="2781360"/>
            <a:ext cx="2808000" cy="2446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00"/>
                </a:solidFill>
                <a:latin typeface="Comic Sans MS"/>
              </a:rPr>
              <a:t>Quelques notion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42960" y="1999800"/>
            <a:ext cx="769608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On peut dater le paléolithique aux alentours de -3 millions d’années à – 8000 . Durant cette période, les hommes préhistoriques chassent les animaux à l’aide de divers armes et outils. Réalisés avec différentes matières premières,  ces instruments sont nécessaires à leur vie quotidienn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1" descr="C:\Users\leidy romain\Desktop\prehistoire%20(12).gif"/>
          <p:cNvPicPr/>
          <p:nvPr/>
        </p:nvPicPr>
        <p:blipFill>
          <a:blip r:embed="rId1"/>
          <a:stretch/>
        </p:blipFill>
        <p:spPr>
          <a:xfrm>
            <a:off x="2236680" y="5137200"/>
            <a:ext cx="5419800" cy="1361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00"/>
                </a:solidFill>
                <a:latin typeface="Comic Sans MS"/>
              </a:rPr>
              <a:t>Les principaux outils et armes du paléolithiq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9" descr="gal"/>
          <p:cNvPicPr/>
          <p:nvPr/>
        </p:nvPicPr>
        <p:blipFill>
          <a:blip r:embed="rId1"/>
          <a:stretch/>
        </p:blipFill>
        <p:spPr>
          <a:xfrm>
            <a:off x="3708360" y="2276640"/>
            <a:ext cx="5038920" cy="1949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Sans titre"/>
          <p:cNvPicPr/>
          <p:nvPr/>
        </p:nvPicPr>
        <p:blipFill>
          <a:blip r:embed="rId2"/>
          <a:stretch/>
        </p:blipFill>
        <p:spPr>
          <a:xfrm>
            <a:off x="0" y="1628640"/>
            <a:ext cx="3814920" cy="3214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ecla"/>
          <p:cNvPicPr/>
          <p:nvPr/>
        </p:nvPicPr>
        <p:blipFill>
          <a:blip r:embed="rId3"/>
          <a:stretch/>
        </p:blipFill>
        <p:spPr>
          <a:xfrm>
            <a:off x="2195640" y="4981680"/>
            <a:ext cx="6048360" cy="1876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icfpp"/>
          <p:cNvPicPr/>
          <p:nvPr/>
        </p:nvPicPr>
        <p:blipFill>
          <a:blip r:embed="rId1"/>
          <a:stretch/>
        </p:blipFill>
        <p:spPr>
          <a:xfrm>
            <a:off x="324000" y="549360"/>
            <a:ext cx="6314760" cy="1800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195640" y="2781360"/>
            <a:ext cx="5492520" cy="34243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00"/>
                </a:solidFill>
                <a:latin typeface="Comic Sans MS"/>
              </a:rPr>
              <a:t>Fabrication des armes et outil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Rectangle 4" descr=""/>
          <p:cNvPicPr/>
          <p:nvPr/>
        </p:nvPicPr>
        <p:blipFill>
          <a:blip r:embed="rId1"/>
          <a:stretch/>
        </p:blipFill>
        <p:spPr>
          <a:xfrm>
            <a:off x="1908000" y="1868400"/>
            <a:ext cx="5256360" cy="4211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C:\Users\leidy romain\Desktop\gifs8.gif"/>
          <p:cNvPicPr/>
          <p:nvPr/>
        </p:nvPicPr>
        <p:blipFill>
          <a:blip r:embed="rId2"/>
          <a:stretch/>
        </p:blipFill>
        <p:spPr>
          <a:xfrm>
            <a:off x="7215120" y="5030640"/>
            <a:ext cx="1428840" cy="1827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C:\Users\leidy romain\Desktop\gifs2.gif"/>
          <p:cNvPicPr/>
          <p:nvPr/>
        </p:nvPicPr>
        <p:blipFill>
          <a:blip r:embed="rId3"/>
          <a:stretch/>
        </p:blipFill>
        <p:spPr>
          <a:xfrm>
            <a:off x="642960" y="1500120"/>
            <a:ext cx="1076400" cy="1076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00"/>
                </a:solidFill>
                <a:latin typeface="Comic Sans MS"/>
              </a:rPr>
              <a:t>Quelle utilis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Des outils et des armes pour: la chasse, la pêche, se nourrir, fabriquer des outils, réaliser des vêtements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6" descr="pree1"/>
          <p:cNvPicPr/>
          <p:nvPr/>
        </p:nvPicPr>
        <p:blipFill>
          <a:blip r:embed="rId1"/>
          <a:stretch/>
        </p:blipFill>
        <p:spPr>
          <a:xfrm>
            <a:off x="1908000" y="2565360"/>
            <a:ext cx="6105600" cy="3816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Users\leidy romain\Desktop\prehistoire%20(16).gif"/>
          <p:cNvPicPr/>
          <p:nvPr/>
        </p:nvPicPr>
        <p:blipFill>
          <a:blip r:embed="rId2"/>
          <a:stretch/>
        </p:blipFill>
        <p:spPr>
          <a:xfrm>
            <a:off x="6715080" y="357120"/>
            <a:ext cx="1163520" cy="1395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5:24:38Z</dcterms:created>
  <dc:creator>delphine</dc:creator>
  <dc:description/>
  <dc:language>en-US</dc:language>
  <cp:lastModifiedBy>Administrateur</cp:lastModifiedBy>
  <dcterms:modified xsi:type="dcterms:W3CDTF">2010-01-29T18:34:55Z</dcterms:modified>
  <cp:revision>18</cp:revision>
  <dc:subject/>
  <dc:title>La préhistoire</dc:title>
</cp:coreProperties>
</file>