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742-2C0B-4A45-BCCC-2964207A85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7070-F75C-4E13-A2C9-783D27A532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94B4-AD8E-40BD-9DFB-F368EBA837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805-F636-4F9C-A492-290984337E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99D-82D6-44F2-A8BF-8D5A4B84FE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EA3-7C3D-4735-AFE5-0B665FF836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11F-AC92-4C51-87AC-9E012CE4E2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E38-3768-4BE1-B5FE-03353F6568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38C-C834-432C-B555-D605C5CAAF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094-FEF0-4B97-8DD6-1B90B0AE43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5032-5796-4A83-9BC7-8CF9482A3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718-B730-461B-84FE-C5D0246D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493-9FB3-4FDA-8500-38E46E3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A08-99F2-4333-8EC3-2F9B0CDA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F9E-E937-4DE4-9C23-1BD92DB3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AB2-574D-4498-BE81-6AF53E98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70F5-B1AC-4505-A55E-CB61D274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529-A312-4F49-8A09-65881328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C0B1-E79C-424A-A0D4-ABDE7A6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45D-7C26-4418-AEC3-62C5EE4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984-1A1E-4517-AD2B-E59A9898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55E4-58CE-4B0A-8F94-F3B137C9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C6C-8338-41F1-9DD9-11212E06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3BA-E972-49D8-8210-22EB154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5B0-5B68-4EB9-BF3D-19E3AD1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197-10FA-41CC-88AF-22ED2AF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A2DC-AD32-4D7F-AE34-0C279A48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8934-DF55-448C-A93E-33BC2919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306-2E97-45B0-88C0-C4CCDBB4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972-F1BD-44FC-87C2-AD126D20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B31-8967-442B-8829-F05AB11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826-D69D-4220-B5BF-65519B2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D3F-2BF8-4495-8028-0036080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68A-BA74-49A4-893D-A834FD8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0A7-30CA-49DA-BF07-7FE05F0B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9991-1C06-4A60-A46C-348DB1FBD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C70B-04D9-4010-87E1-69DDEB8B7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55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La préhistoi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outils du paléolith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index_caverne"/>
          <p:cNvPicPr/>
          <p:nvPr/>
        </p:nvPicPr>
        <p:blipFill>
          <a:blip r:embed="rId1"/>
          <a:stretch/>
        </p:blipFill>
        <p:spPr>
          <a:xfrm>
            <a:off x="0" y="3038400"/>
            <a:ext cx="4314960" cy="38196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4"/>
          <p:cNvSpPr/>
          <p:nvPr/>
        </p:nvSpPr>
        <p:spPr>
          <a:xfrm>
            <a:off x="5643720" y="58579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tista ferreira Leid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rnard-cuisinier Delp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rin Jul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Vrai - fa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54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hommes préhistoriques avaient des pistole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biface est un silex taillé des deux cotés et qui coupe bi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éclats étaient des pierres précie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la fabrication des outils, les hommes préhistoriques possédaient une machin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galet aménagé est un outil du paléolithique permettant le cassage d’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prehistoire"/>
          <p:cNvPicPr/>
          <p:nvPr/>
        </p:nvPicPr>
        <p:blipFill>
          <a:blip r:embed="rId1"/>
          <a:stretch/>
        </p:blipFill>
        <p:spPr>
          <a:xfrm>
            <a:off x="6084720" y="2781360"/>
            <a:ext cx="2165400" cy="36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’utilisation du diaporam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440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us utiliserons ce diaporama en classe de CE2 afin d’interroger les élèves sur leurs représentations des outils et des armes des hommes de la préhisto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ns cette séance nous travaillerons sur la période paléolithique de la préhisto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que outil ou arme sera projeté au tableau et les élèves énuméreront leurs hypothèses          sur leur fonction, leur matièr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" descr="C:\Users\leidy romain\Desktop\014.gif"/>
          <p:cNvPicPr/>
          <p:nvPr/>
        </p:nvPicPr>
        <p:blipFill>
          <a:blip r:embed="rId1"/>
          <a:stretch/>
        </p:blipFill>
        <p:spPr>
          <a:xfrm>
            <a:off x="5670720" y="-222120"/>
            <a:ext cx="2365200" cy="236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Par la suite 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999720"/>
            <a:ext cx="828684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terminer cette séquence sur la préhistoire, il serait intéressant de faire manipuler les enfants  sur les différents outils de cette époq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se faire nous pourrions organiser une sortie dans un centre nommé « A la poursuite de la préhistoire »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centre propose de faire observer, manipuler, expérimenter des outils, des armes,…tout ce qui pouvait exister à cette époque. Ces différentes activités permettraient aux élèves d’être actifs et de se faire une représentation visuelle du mode de vie des hommes préhistoriqu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L’adresses de ce centre est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http://lespep56.lespep.org/e_upload/pdf/a_la_poursuite_de_la_prehistoire.pd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bebe_arc"/>
          <p:cNvPicPr/>
          <p:nvPr/>
        </p:nvPicPr>
        <p:blipFill>
          <a:blip r:embed="rId1"/>
          <a:stretch/>
        </p:blipFill>
        <p:spPr>
          <a:xfrm>
            <a:off x="7072200" y="4697280"/>
            <a:ext cx="186228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es armes et outils du paléolithiqu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5640" y="227664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ls armes et outils utilisent les hommes préhistoriqu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ent les fabriquent-i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ls matériaux sont utilisé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 quoi servent-i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outiln33"/>
          <p:cNvPicPr/>
          <p:nvPr/>
        </p:nvPicPr>
        <p:blipFill>
          <a:blip r:embed="rId1"/>
          <a:stretch/>
        </p:blipFill>
        <p:spPr>
          <a:xfrm>
            <a:off x="684360" y="2781360"/>
            <a:ext cx="2808000" cy="2446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Quelques no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99980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eut dater le paléolithique aux alentours de -3 millions d’années à – 8000 . Durant cette période, les hommes préhistoriques chassent les animaux à l’aide de divers armes et outils. Réalisés avec différentes matières premières,  ces instruments sont nécessaires à leur vie quotidien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" descr="C:\Users\leidy romain\Desktop\prehistoire%20(12).gif"/>
          <p:cNvPicPr/>
          <p:nvPr/>
        </p:nvPicPr>
        <p:blipFill>
          <a:blip r:embed="rId1"/>
          <a:stretch/>
        </p:blipFill>
        <p:spPr>
          <a:xfrm>
            <a:off x="2236680" y="5137200"/>
            <a:ext cx="5419800" cy="1361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es principaux outils et armes du paléolithiq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9" descr="gal"/>
          <p:cNvPicPr/>
          <p:nvPr/>
        </p:nvPicPr>
        <p:blipFill>
          <a:blip r:embed="rId1"/>
          <a:stretch/>
        </p:blipFill>
        <p:spPr>
          <a:xfrm>
            <a:off x="3708360" y="2276640"/>
            <a:ext cx="5038920" cy="194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Sans titre"/>
          <p:cNvPicPr/>
          <p:nvPr/>
        </p:nvPicPr>
        <p:blipFill>
          <a:blip r:embed="rId2"/>
          <a:stretch/>
        </p:blipFill>
        <p:spPr>
          <a:xfrm>
            <a:off x="0" y="1628640"/>
            <a:ext cx="3814920" cy="32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ecla"/>
          <p:cNvPicPr/>
          <p:nvPr/>
        </p:nvPicPr>
        <p:blipFill>
          <a:blip r:embed="rId3"/>
          <a:stretch/>
        </p:blipFill>
        <p:spPr>
          <a:xfrm>
            <a:off x="2195640" y="4981680"/>
            <a:ext cx="6048360" cy="187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icfpp"/>
          <p:cNvPicPr/>
          <p:nvPr/>
        </p:nvPicPr>
        <p:blipFill>
          <a:blip r:embed="rId1"/>
          <a:stretch/>
        </p:blipFill>
        <p:spPr>
          <a:xfrm>
            <a:off x="324000" y="549360"/>
            <a:ext cx="631476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5492520" cy="3424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Fabrication des armes et outil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Rectangle 4" descr=""/>
          <p:cNvPicPr/>
          <p:nvPr/>
        </p:nvPicPr>
        <p:blipFill>
          <a:blip r:embed="rId1"/>
          <a:stretch/>
        </p:blipFill>
        <p:spPr>
          <a:xfrm>
            <a:off x="1908000" y="1868400"/>
            <a:ext cx="5256360" cy="421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leidy romain\Desktop\gifs8.gif"/>
          <p:cNvPicPr/>
          <p:nvPr/>
        </p:nvPicPr>
        <p:blipFill>
          <a:blip r:embed="rId2"/>
          <a:stretch/>
        </p:blipFill>
        <p:spPr>
          <a:xfrm>
            <a:off x="7215120" y="5030640"/>
            <a:ext cx="1428840" cy="182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:\Users\leidy romain\Desktop\gifs2.gif"/>
          <p:cNvPicPr/>
          <p:nvPr/>
        </p:nvPicPr>
        <p:blipFill>
          <a:blip r:embed="rId3"/>
          <a:stretch/>
        </p:blipFill>
        <p:spPr>
          <a:xfrm>
            <a:off x="642960" y="15001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Quelle utilis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s outils et des armes pour: la chasse, la pêche, se nourrir, fabriquer des outils, réaliser des vêtement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pree1"/>
          <p:cNvPicPr/>
          <p:nvPr/>
        </p:nvPicPr>
        <p:blipFill>
          <a:blip r:embed="rId1"/>
          <a:stretch/>
        </p:blipFill>
        <p:spPr>
          <a:xfrm>
            <a:off x="1908000" y="2565360"/>
            <a:ext cx="6105600" cy="38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leidy romain\Desktop\prehistoire%20(16).gif"/>
          <p:cNvPicPr/>
          <p:nvPr/>
        </p:nvPicPr>
        <p:blipFill>
          <a:blip r:embed="rId2"/>
          <a:stretch/>
        </p:blipFill>
        <p:spPr>
          <a:xfrm>
            <a:off x="6715080" y="357120"/>
            <a:ext cx="1163520" cy="1395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24:38Z</dcterms:created>
  <dc:creator>delphine</dc:creator>
  <dc:description/>
  <dc:language>en-US</dc:language>
  <cp:lastModifiedBy>Administrateur</cp:lastModifiedBy>
  <dcterms:modified xsi:type="dcterms:W3CDTF">2010-01-29T18:34:55Z</dcterms:modified>
  <cp:revision>18</cp:revision>
  <dc:subject/>
  <dc:title>La préhistoire</dc:title>
</cp:coreProperties>
</file>