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5ECB1-6BC6-417E-8BD4-F5660A8C42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05F8-AB81-42F3-A896-5B2A0EB5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076-AB3E-46FB-834B-7E934580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D3C-C6A3-4835-8D50-0D65FF2D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84C-9E71-4E61-87E8-ECF386BD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790-9203-4E09-8394-C8A70B8A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DBE-867B-450B-9C74-B6402169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855-0BED-4F13-8754-B44AF2D8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A4F-B682-44DD-B624-4908D677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582-EEE6-43C0-B473-39840A3D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224-2AB8-462F-9DD0-6A4D8760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39A-C7C1-4537-BADD-D4BAE4C5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CA11-0C51-400D-8617-AD275771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71B52-551D-443F-8173-FCD8A4A75D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emi-ton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mi.wav" TargetMode="External"/><Relationship Id="rId3" Type="http://schemas.openxmlformats.org/officeDocument/2006/relationships/hyperlink" Target="file:///tmp/home/.config/libreoffice/4/user/gallery/fa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lein%20ton.wav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5640" y="568440"/>
            <a:ext cx="5202360" cy="5922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0000" y="1440000"/>
            <a:ext cx="5219640" cy="2700360"/>
          </a:xfrm>
          <a:prstGeom prst="wedgeRoundRectCallout">
            <a:avLst>
              <a:gd name="adj1" fmla="val -87851"/>
              <a:gd name="adj2" fmla="val 3018"/>
              <a:gd name="adj3" fmla="val 16667"/>
            </a:avLst>
          </a:prstGeom>
          <a:solidFill>
            <a:srgbClr val="ccccff"/>
          </a:solidFill>
          <a:ln w="3600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C'est quoi  exac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un </a:t>
            </a:r>
            <a:r>
              <a:rPr b="0" lang="en-GB" sz="3200" spc="-1" strike="noStrike">
                <a:solidFill>
                  <a:srgbClr val="ff6633"/>
                </a:solidFill>
                <a:latin typeface="Arial"/>
              </a:rPr>
              <a:t>demi-ton</a:t>
            </a: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3366"/>
                </a:solidFill>
                <a:latin typeface="Arial"/>
              </a:rPr>
              <a:t>J'ai pas très bien compris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59280" y="4859280"/>
            <a:ext cx="36007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Question de Cyril, 8 a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5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80360" y="539640"/>
            <a:ext cx="3240" cy="32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360360"/>
            <a:ext cx="8101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Pour comprendre ce qu'est un </a:t>
            </a:r>
            <a:r>
              <a:rPr b="0" lang="en-GB" sz="3200" spc="-1" strike="noStrike">
                <a:solidFill>
                  <a:srgbClr val="ff6633"/>
                </a:solidFill>
                <a:latin typeface="Arial"/>
              </a:rPr>
              <a:t>demi-ton</a:t>
            </a: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, écoutons à quoi cela ressem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66"/>
                </a:solidFill>
                <a:latin typeface="Arial"/>
              </a:rPr>
              <a:t>(Cliquer sur l'image pour entend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9280" y="1979640"/>
            <a:ext cx="1793880" cy="180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60360" y="3959280"/>
            <a:ext cx="738036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Tu as entendu 2 notes : la première est la plus </a:t>
            </a:r>
            <a:r>
              <a:rPr b="0" lang="en-GB" sz="2800" spc="-1" strike="noStrike">
                <a:solidFill>
                  <a:srgbClr val="ff6633"/>
                </a:solidFill>
                <a:latin typeface="Arial"/>
              </a:rPr>
              <a:t>grave</a:t>
            </a: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, la deuxième la plus </a:t>
            </a:r>
            <a:r>
              <a:rPr b="0" lang="en-GB" sz="2800" spc="-1" strike="noStrike">
                <a:solidFill>
                  <a:srgbClr val="ff6633"/>
                </a:solidFill>
                <a:latin typeface="Arial"/>
              </a:rPr>
              <a:t>aigue</a:t>
            </a: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5219640"/>
            <a:ext cx="6840360" cy="11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L' écart entre ces deux notes «mesure» </a:t>
            </a:r>
            <a:r>
              <a:rPr b="0" lang="en-GB" sz="3600" spc="-1" strike="noStrike" u="sng">
                <a:solidFill>
                  <a:srgbClr val="ff6633"/>
                </a:solidFill>
                <a:uFillTx/>
                <a:latin typeface="Arial"/>
              </a:rPr>
              <a:t>un demi-ton</a:t>
            </a: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 (½ ton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0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360360"/>
            <a:ext cx="97203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Sur la guitare, c'est faci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6633"/>
                </a:solidFill>
                <a:latin typeface="Arial"/>
              </a:rPr>
              <a:t>un demi-ton = une ca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1160" y="1800360"/>
            <a:ext cx="9619920" cy="256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72080" y="3995640"/>
            <a:ext cx="877680" cy="911160"/>
          </a:xfrm>
          <a:prstGeom prst="downArrowCallout">
            <a:avLst>
              <a:gd name="adj1" fmla="val 5843"/>
              <a:gd name="adj2" fmla="val 17046"/>
              <a:gd name="adj3" fmla="val 17716"/>
              <a:gd name="adj4" fmla="val 44051"/>
            </a:avLst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8280" y="5021280"/>
            <a:ext cx="1806480" cy="919080"/>
          </a:xfrm>
          <a:prstGeom prst="ellipse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½ 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99280" y="5945040"/>
            <a:ext cx="197964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66"/>
                </a:solidFill>
                <a:latin typeface="Arial"/>
              </a:rPr>
              <a:t>Donc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0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360360"/>
            <a:ext cx="972036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... Pour jouer un </a:t>
            </a:r>
            <a:r>
              <a:rPr b="0" lang="en-GB" sz="3200" spc="-1" strike="noStrike">
                <a:solidFill>
                  <a:srgbClr val="ff6633"/>
                </a:solidFill>
                <a:latin typeface="Arial"/>
              </a:rPr>
              <a:t>demi-ton</a:t>
            </a: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, il faut jouer 2 notes placées dans des </a:t>
            </a:r>
            <a:r>
              <a:rPr b="0" lang="en-GB" sz="3200" spc="-1" strike="noStrike">
                <a:solidFill>
                  <a:srgbClr val="ff6633"/>
                </a:solidFill>
                <a:latin typeface="Arial"/>
              </a:rPr>
              <a:t>cases voisines</a:t>
            </a: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0000" y="2340000"/>
            <a:ext cx="6837120" cy="37846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2"/>
          </p:cNvPr>
          <p:cNvSpPr/>
          <p:nvPr/>
        </p:nvSpPr>
        <p:spPr>
          <a:xfrm>
            <a:off x="4740120" y="4205160"/>
            <a:ext cx="540000" cy="54000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"/>
          </p:cNvPr>
          <p:cNvSpPr/>
          <p:nvPr/>
        </p:nvSpPr>
        <p:spPr>
          <a:xfrm>
            <a:off x="6183360" y="4181400"/>
            <a:ext cx="539640" cy="55872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1514520"/>
            <a:ext cx="8101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333366"/>
                </a:solidFill>
                <a:latin typeface="Arial"/>
              </a:rPr>
              <a:t>( Clique sur « </a:t>
            </a:r>
            <a:r>
              <a:rPr b="1" i="1" lang="en-GB" sz="2600" spc="-1" strike="noStrike">
                <a:solidFill>
                  <a:srgbClr val="333366"/>
                </a:solidFill>
                <a:latin typeface="Arial"/>
              </a:rPr>
              <a:t>Mi</a:t>
            </a:r>
            <a:r>
              <a:rPr b="0" i="1" lang="en-GB" sz="2400" spc="-1" strike="noStrike">
                <a:solidFill>
                  <a:srgbClr val="333366"/>
                </a:solidFill>
                <a:latin typeface="Arial"/>
              </a:rPr>
              <a:t> » puis «</a:t>
            </a:r>
            <a:r>
              <a:rPr b="1" i="1" lang="en-GB" sz="2600" spc="-1" strike="noStrike">
                <a:solidFill>
                  <a:srgbClr val="333366"/>
                </a:solidFill>
                <a:latin typeface="Arial"/>
              </a:rPr>
              <a:t> fa</a:t>
            </a:r>
            <a:r>
              <a:rPr b="0" i="1" lang="en-GB" sz="2400" spc="-1" strike="noStrike">
                <a:solidFill>
                  <a:srgbClr val="333366"/>
                </a:solidFill>
                <a:latin typeface="Arial"/>
              </a:rPr>
              <a:t> » pour entendre le demi-to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0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3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3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720720"/>
            <a:ext cx="4319640" cy="5400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360360"/>
            <a:ext cx="450072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Et maintenant tu peux t'amuser à jouer plein de </a:t>
            </a:r>
            <a:r>
              <a:rPr b="0" lang="en-GB" sz="3200" spc="-1" strike="noStrike">
                <a:solidFill>
                  <a:srgbClr val="ff6633"/>
                </a:solidFill>
                <a:latin typeface="Arial"/>
              </a:rPr>
              <a:t>demi-tons</a:t>
            </a:r>
            <a:r>
              <a:rPr b="0" lang="en-GB" sz="3200" spc="-1" strike="noStrike">
                <a:solidFill>
                  <a:srgbClr val="333366"/>
                </a:solidFill>
                <a:latin typeface="Arial"/>
              </a:rPr>
              <a:t> sur ta guit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2700360"/>
            <a:ext cx="4680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Ce que tu viens d'apprendre t'aidera par exemple à trouver comment jouer les notes avec des</a:t>
            </a:r>
            <a:r>
              <a:rPr b="0" lang="en-GB" sz="2800" spc="-1" strike="noStrike">
                <a:solidFill>
                  <a:srgbClr val="ff6633"/>
                </a:solidFill>
                <a:latin typeface="Arial"/>
              </a:rPr>
              <a:t> # (dièses)</a:t>
            </a:r>
            <a:r>
              <a:rPr b="0" lang="en-GB" sz="2800" spc="-1" strike="noStrike">
                <a:solidFill>
                  <a:srgbClr val="333366"/>
                </a:solidFill>
                <a:latin typeface="Arial"/>
              </a:rPr>
              <a:t>ou des</a:t>
            </a:r>
            <a:r>
              <a:rPr b="0" lang="en-GB" sz="2800" spc="-1" strike="noStrike">
                <a:solidFill>
                  <a:srgbClr val="ff6633"/>
                </a:solidFill>
                <a:latin typeface="Arial"/>
              </a:rPr>
              <a:t> b (bémol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400720"/>
            <a:ext cx="181080" cy="179280"/>
          </a:xfrm>
          <a:prstGeom prst="roundRect">
            <a:avLst>
              <a:gd name="adj" fmla="val 8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0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