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2519F-EA48-45AA-AAF4-3D7D793C5F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309-56F3-46EA-BAD7-926D5E81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98E-4CEC-4C0E-A3B7-E26D2E11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90E-7A0C-4641-93CD-F3CABA25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619-9352-44E1-969E-135BC2DD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B5D-C9AF-4166-B74C-797AFF15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D39-20DA-49BE-BFA8-8C072B75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B88-B2B3-4D68-827B-241B42D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5BB-7BA3-4C95-86E7-7F7D1E50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157-A3E2-4A0E-A670-979DB3C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D9D-9706-4A42-ACC5-781D221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123-3C53-4B23-AA96-58D9E9EB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143-CA70-42E2-892D-C58CCDE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4852-AE1D-44EA-9F64-9726DBC7A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mi-ton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mi.wav" TargetMode="External"/><Relationship Id="rId3" Type="http://schemas.openxmlformats.org/officeDocument/2006/relationships/hyperlink" Target="file:///tmp/home/.config/libreoffice/4/user/gallery/fa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lein%20ton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640" y="568440"/>
            <a:ext cx="5202360" cy="592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0000" y="1440000"/>
            <a:ext cx="5219640" cy="2700360"/>
          </a:xfrm>
          <a:prstGeom prst="wedgeRoundRectCallout">
            <a:avLst>
              <a:gd name="adj1" fmla="val -87851"/>
              <a:gd name="adj2" fmla="val 3018"/>
              <a:gd name="adj3" fmla="val 16667"/>
            </a:avLst>
          </a:prstGeom>
          <a:solidFill>
            <a:srgbClr val="ccccff"/>
          </a:solidFill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C'est quoi  exac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66"/>
                </a:solidFill>
                <a:latin typeface="Arial"/>
              </a:rPr>
              <a:t>J'ai pas très bien compri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9280" y="4859280"/>
            <a:ext cx="3600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Question de Cyril, 8 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5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80360" y="539640"/>
            <a:ext cx="3240" cy="32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360360"/>
            <a:ext cx="810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our comprendre ce qu'est 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, écoutons à quoi cela ressem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66"/>
                </a:solidFill>
                <a:latin typeface="Arial"/>
              </a:rPr>
              <a:t>(Cliquer sur l'image pour entend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9280" y="1979640"/>
            <a:ext cx="1793880" cy="180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60360" y="3959280"/>
            <a:ext cx="73803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Tu as entendu 2 notes : la première est la plus 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grave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, la deuxième la plus 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aigue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5219640"/>
            <a:ext cx="684036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L' écart entre ces deux notes «mesure» </a:t>
            </a:r>
            <a:r>
              <a:rPr b="0" lang="en-GB" sz="3600" spc="-1" strike="noStrike" u="sng">
                <a:solidFill>
                  <a:srgbClr val="ff6633"/>
                </a:solidFill>
                <a:uFillTx/>
                <a:latin typeface="Arial"/>
              </a:rPr>
              <a:t>un demi-ton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 (½ to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360360"/>
            <a:ext cx="97203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ur la guitare, c'est faci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6633"/>
                </a:solidFill>
                <a:latin typeface="Arial"/>
              </a:rPr>
              <a:t>un demi-ton = une c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160" y="1800360"/>
            <a:ext cx="9619920" cy="256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72080" y="3995640"/>
            <a:ext cx="877680" cy="911160"/>
          </a:xfrm>
          <a:prstGeom prst="downArrowCallout">
            <a:avLst>
              <a:gd name="adj1" fmla="val 5843"/>
              <a:gd name="adj2" fmla="val 17046"/>
              <a:gd name="adj3" fmla="val 17716"/>
              <a:gd name="adj4" fmla="val 44051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8280" y="5021280"/>
            <a:ext cx="1806480" cy="9190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½ 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9280" y="5945040"/>
            <a:ext cx="197964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Don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360360"/>
            <a:ext cx="97203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... Pour jouer 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, il faut jouer 2 notes placées dans des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cases voisines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6837120" cy="37846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/>
          </p:cNvPr>
          <p:cNvSpPr/>
          <p:nvPr/>
        </p:nvSpPr>
        <p:spPr>
          <a:xfrm>
            <a:off x="4740120" y="4205160"/>
            <a:ext cx="540000" cy="540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6183360" y="4181400"/>
            <a:ext cx="539640" cy="5587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514520"/>
            <a:ext cx="8101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( Clique sur « </a:t>
            </a:r>
            <a:r>
              <a:rPr b="1" i="1" lang="en-GB" sz="2600" spc="-1" strike="noStrike">
                <a:solidFill>
                  <a:srgbClr val="333366"/>
                </a:solidFill>
                <a:latin typeface="Arial"/>
              </a:rPr>
              <a:t>Mi</a:t>
            </a: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 » puis «</a:t>
            </a:r>
            <a:r>
              <a:rPr b="1" i="1" lang="en-GB" sz="2600" spc="-1" strike="noStrike">
                <a:solidFill>
                  <a:srgbClr val="333366"/>
                </a:solidFill>
                <a:latin typeface="Arial"/>
              </a:rPr>
              <a:t> fa</a:t>
            </a: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 » pour entendre le demi-t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360360"/>
            <a:ext cx="450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Et maintenant tu peux t'amuser à jouer plein de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s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 sur ta guit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700360"/>
            <a:ext cx="4680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Ce que tu viens d'apprendre t'aidera par exemple à trouver comment jouer les notes avec des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 # (dièses)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ou des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 b (bémo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400720"/>
            <a:ext cx="181080" cy="179280"/>
          </a:xfrm>
          <a:prstGeom prst="roundRect">
            <a:avLst>
              <a:gd name="adj" fmla="val 8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